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9.wmf" ContentType="image/x-wmf"/>
  <Override PartName="/ppt/media/image13.png" ContentType="image/png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8.png" ContentType="image/png"/>
  <Override PartName="/ppt/media/image1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9466C-9A3D-4EE5-8F0F-EB39B1D1B91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e ab 2003 zugelassene Internet-Schnittstelle für Ereignisdaten muss noch um den Schutzmechanismus IPSec ergänzt werden (TR TKÜ 4.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n Vorwärstrichtung Vom/zum  Endgerät SETUP, Vom zum Netz IAM, Rückwärtsrichtung CONN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wachung der IN Nummer: Übermittlung der Nutzinformation CC per ISDN und der Ereignisdaten (IRI) per FTAM. Es müssen u.a. die Rufnummern A, IN# und B erfaßt werd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wachung A: Übermittlung der Nutzinformation CC per ISDN und der Ereignisdaten (IRI) per FTAM. Es müssen u.a. die Rufnummern A und IN# erfaßt werden. Zusätzlich Subscriber Controlled Input (SCI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wachung B: Übermittlung der Nutzinformation CC per ISDN und der Ereignisdaten (IRI) per FTAM. Es müssen die in der CLI und ggf. Generic Number enthaltenen Rufnummern A und IN# erfaßt wer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Weitere Parameter in allen Überwachungsfällen abhä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ig von evt. genutzten Zusatzdiensten (supplementary ser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CP Call Control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SP Service SWitching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CP Service Switching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TS Base Transceiver S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SC Base Station Contro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GSN Gateway GPRS Support N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MSC Gateway 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LR Home Location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SC Mobil Switching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CU Packet Control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NC Radio Link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GSN Serving GPRS Support N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LR Visitor Location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5456-EA0B-451D-8E7A-A67134ED3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8497-E6E6-4FD9-B544-19074DA1C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377E-ED22-4FA1-B5C7-93215B260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1463-8BB1-4EA3-967E-3BD36FADF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25D6-A5E0-4E04-926E-F6D3036C3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5B2A-94C9-429F-8ABE-89C469218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AC79-4B14-4C52-B55A-68A239E34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EC94-D60A-48EE-850A-98CBC676A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946D-D476-4B00-BE42-89EE4D1D9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1D7D-60E1-4AE8-BC67-8A9AAF0D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5E5D-C3DE-4177-BE9D-274F29F1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C7B8-EA4D-4197-B13B-D1F0177F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0F3B0-4B48-4C8E-B673-F244007894F5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D35AD-E070-4558-A73D-9FE12C2A1CE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karl-heinz.helf@regtp.de" TargetMode="External"/><Relationship Id="rId2" Type="http://schemas.openxmlformats.org/officeDocument/2006/relationships/hyperlink" Target="http://www.regtp.de/" TargetMode="External"/><Relationship Id="rId3" Type="http://schemas.openxmlformats.org/officeDocument/2006/relationships/package" Target="../embeddings/oleObject1.docx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Technische Richtlinie, Internationale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Karl-Heinz Helf</a:t>
            </a:r>
            <a:br>
              <a:rPr sz="3200"/>
            </a:br>
            <a:r>
              <a:rPr b="0" lang="de-DE" sz="2400" spc="-1" strike="noStrike">
                <a:solidFill>
                  <a:srgbClr val="3333cc"/>
                </a:solidFill>
                <a:latin typeface="Arial Unicode MS"/>
              </a:rPr>
              <a:t>Regulierungsbehörde für Telekommunikation und P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Referat IS 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ccccff"/>
                </a:solidFill>
                <a:uFillTx/>
                <a:latin typeface="Arial Unicode MS"/>
                <a:hlinkClick r:id="rId1"/>
              </a:rPr>
              <a:t>karl-heinz.helf@regtp.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ccccff"/>
                </a:solidFill>
                <a:uFillTx/>
                <a:latin typeface="Arial Unicode MS"/>
                <a:hlinkClick r:id="rId2"/>
              </a:rPr>
              <a:t>www.regtp.de</a:t>
            </a: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 </a:t>
            </a:r>
            <a:br>
              <a:rPr sz="3200"/>
            </a:br>
            <a:r>
              <a:rPr b="0" lang="de-DE" sz="2400" spc="-1" strike="noStrike">
                <a:solidFill>
                  <a:srgbClr val="3333cc"/>
                </a:solidFill>
                <a:latin typeface="Arial Unicode MS"/>
              </a:rPr>
              <a:t>technische Regulierung Telekommunikation </a:t>
            </a:r>
            <a:br>
              <a:rPr sz="2400"/>
            </a:br>
            <a:r>
              <a:rPr b="0" lang="de-DE" sz="2400" spc="-1" strike="noStrike">
                <a:solidFill>
                  <a:srgbClr val="3333cc"/>
                </a:solidFill>
                <a:latin typeface="Arial Unicode MS"/>
              </a:rPr>
              <a:t>techn. Umsetzung von Überwachungsmaßnahmen</a:t>
            </a: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8CCF-940D-4236-8725-6CB8F89CCA2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2A58C5-949B-4666-BA3A-1B28382F9972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Ü für den Internetzuga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0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2" name=""/>
          <p:cNvSpPr/>
          <p:nvPr/>
        </p:nvSpPr>
        <p:spPr>
          <a:xfrm>
            <a:off x="3733920" y="4952880"/>
            <a:ext cx="0" cy="8384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315200" y="4952880"/>
            <a:ext cx="0" cy="762120"/>
          </a:xfrm>
          <a:prstGeom prst="line">
            <a:avLst/>
          </a:prstGeom>
          <a:ln w="76320">
            <a:solidFill>
              <a:srgbClr val="ff99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562720" y="4876920"/>
            <a:ext cx="0" cy="838080"/>
          </a:xfrm>
          <a:prstGeom prst="line">
            <a:avLst/>
          </a:prstGeom>
          <a:ln w="7632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2209680" y="1447920"/>
            <a:ext cx="3079440" cy="2019240"/>
            <a:chOff x="2209680" y="1447920"/>
            <a:chExt cx="3079440" cy="2019240"/>
          </a:xfrm>
        </p:grpSpPr>
        <p:grpSp>
          <p:nvGrpSpPr>
            <p:cNvPr id="756" name=""/>
            <p:cNvGrpSpPr/>
            <p:nvPr/>
          </p:nvGrpSpPr>
          <p:grpSpPr>
            <a:xfrm>
              <a:off x="3886200" y="1600200"/>
              <a:ext cx="1402920" cy="721800"/>
              <a:chOff x="3886200" y="1600200"/>
              <a:chExt cx="1402920" cy="721800"/>
            </a:xfrm>
          </p:grpSpPr>
          <p:sp>
            <p:nvSpPr>
              <p:cNvPr id="757" name=""/>
              <p:cNvSpPr/>
              <p:nvPr/>
            </p:nvSpPr>
            <p:spPr>
              <a:xfrm>
                <a:off x="4254120" y="192528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4254120" y="192528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4086000" y="164376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4086000" y="164376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886200" y="178452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886200" y="178452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006440" y="203508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006440" y="203508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802400" y="179856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4802400" y="179856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4604400" y="164376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4604400" y="164376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379760" y="160020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4379760" y="160020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701960" y="196452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701960" y="196452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988800" y="1656360"/>
                <a:ext cx="1199520" cy="62028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048920" y="1902600"/>
                <a:ext cx="1093680" cy="18288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ST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"/>
            <p:cNvSpPr/>
            <p:nvPr/>
          </p:nvSpPr>
          <p:spPr>
            <a:xfrm flipV="1">
              <a:off x="3809880" y="2286000"/>
              <a:ext cx="609840" cy="1162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6" name=""/>
            <p:cNvGrpSpPr/>
            <p:nvPr/>
          </p:nvGrpSpPr>
          <p:grpSpPr>
            <a:xfrm>
              <a:off x="2209680" y="1676520"/>
              <a:ext cx="1403280" cy="721800"/>
              <a:chOff x="2209680" y="1676520"/>
              <a:chExt cx="1403280" cy="721800"/>
            </a:xfrm>
          </p:grpSpPr>
          <p:sp>
            <p:nvSpPr>
              <p:cNvPr id="777" name=""/>
              <p:cNvSpPr/>
              <p:nvPr/>
            </p:nvSpPr>
            <p:spPr>
              <a:xfrm>
                <a:off x="2577600" y="200160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577600" y="200160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2409480" y="172008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2409480" y="172008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2209680" y="186084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2209680" y="186084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2329920" y="211140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329920" y="211140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126240" y="187488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126240" y="187488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2927880" y="172008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2927880" y="172008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703240" y="167652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2703240" y="167652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025440" y="204084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025440" y="204084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2312280" y="1732680"/>
                <a:ext cx="1199880" cy="62028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318400" y="1978920"/>
                <a:ext cx="1203480" cy="18288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P-Net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5" name=""/>
            <p:cNvSpPr/>
            <p:nvPr/>
          </p:nvSpPr>
          <p:spPr>
            <a:xfrm flipH="1" flipV="1">
              <a:off x="3048120" y="2438280"/>
              <a:ext cx="558720" cy="1028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3716280" y="2209320"/>
              <a:ext cx="17640" cy="125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429720" y="1447920"/>
              <a:ext cx="702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Voice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Gatew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8" name=""/>
            <p:cNvGrpSpPr/>
            <p:nvPr/>
          </p:nvGrpSpPr>
          <p:grpSpPr>
            <a:xfrm>
              <a:off x="3598920" y="1839960"/>
              <a:ext cx="334800" cy="363240"/>
              <a:chOff x="3598920" y="1839960"/>
              <a:chExt cx="334800" cy="363240"/>
            </a:xfrm>
          </p:grpSpPr>
          <p:sp>
            <p:nvSpPr>
              <p:cNvPr id="799" name=""/>
              <p:cNvSpPr/>
              <p:nvPr/>
            </p:nvSpPr>
            <p:spPr>
              <a:xfrm>
                <a:off x="3832920" y="1840680"/>
                <a:ext cx="100440" cy="361800"/>
              </a:xfrm>
              <a:custGeom>
                <a:avLst/>
                <a:gdLst/>
                <a:ahLst/>
                <a:rect l="l" t="t" r="r" b="b"/>
                <a:pathLst>
                  <a:path w="106" h="381">
                    <a:moveTo>
                      <a:pt x="0" y="16"/>
                    </a:moveTo>
                    <a:lnTo>
                      <a:pt x="105" y="0"/>
                    </a:lnTo>
                    <a:lnTo>
                      <a:pt x="105" y="311"/>
                    </a:lnTo>
                    <a:lnTo>
                      <a:pt x="0" y="38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602520" y="2129400"/>
                <a:ext cx="212040" cy="73800"/>
              </a:xfrm>
              <a:custGeom>
                <a:avLst/>
                <a:gdLst/>
                <a:ahLst/>
                <a:rect l="l" t="t" r="r" b="b"/>
                <a:pathLst>
                  <a:path w="223" h="78">
                    <a:moveTo>
                      <a:pt x="0" y="0"/>
                    </a:moveTo>
                    <a:lnTo>
                      <a:pt x="0" y="19"/>
                    </a:lnTo>
                    <a:lnTo>
                      <a:pt x="222" y="77"/>
                    </a:lnTo>
                    <a:lnTo>
                      <a:pt x="222" y="5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598920" y="1854720"/>
                <a:ext cx="216000" cy="326520"/>
              </a:xfrm>
              <a:custGeom>
                <a:avLst/>
                <a:gdLst/>
                <a:ahLst/>
                <a:rect l="l" t="t" r="r" b="b"/>
                <a:pathLst>
                  <a:path w="227" h="344">
                    <a:moveTo>
                      <a:pt x="0" y="3"/>
                    </a:moveTo>
                    <a:lnTo>
                      <a:pt x="0" y="283"/>
                    </a:lnTo>
                    <a:lnTo>
                      <a:pt x="226" y="343"/>
                    </a:lnTo>
                    <a:lnTo>
                      <a:pt x="226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609000" y="1869120"/>
                <a:ext cx="196920" cy="129960"/>
              </a:xfrm>
              <a:custGeom>
                <a:avLst/>
                <a:gdLst/>
                <a:ahLst/>
                <a:rect l="l" t="t" r="r" b="b"/>
                <a:pathLst>
                  <a:path w="207" h="137">
                    <a:moveTo>
                      <a:pt x="0" y="0"/>
                    </a:moveTo>
                    <a:lnTo>
                      <a:pt x="206" y="0"/>
                    </a:lnTo>
                    <a:lnTo>
                      <a:pt x="206" y="136"/>
                    </a:lnTo>
                    <a:lnTo>
                      <a:pt x="0" y="1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3615840" y="1875600"/>
                <a:ext cx="177840" cy="1148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615840" y="1876680"/>
                <a:ext cx="177840" cy="11448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615840" y="1875600"/>
                <a:ext cx="177840" cy="1148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3614760" y="187668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3625200" y="187668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3642480" y="187668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3652920" y="1876680"/>
                <a:ext cx="15840" cy="9648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669120" y="1876680"/>
                <a:ext cx="15840" cy="9936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3681360" y="1876680"/>
                <a:ext cx="15840" cy="10044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5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696840" y="187956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3709080" y="1879560"/>
                <a:ext cx="15840" cy="9936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725280" y="1879560"/>
                <a:ext cx="15840" cy="10224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735720" y="187956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3749040" y="187956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765240" y="188064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780360" y="1880640"/>
                <a:ext cx="15840" cy="10548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792600" y="1880640"/>
                <a:ext cx="15840" cy="108000"/>
              </a:xfrm>
              <a:custGeom>
                <a:avLst/>
                <a:gdLst/>
                <a:ahLst/>
                <a:rect l="l" t="t" r="r" b="b"/>
                <a:pathLst>
                  <a:path w="17" h="114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614760" y="187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625200" y="187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63780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65292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66912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68136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69684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70908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372528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373572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374796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76524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78036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79260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3614760" y="1969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625200" y="1969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637800" y="1971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652920" y="1972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3669120" y="1975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3681360" y="1977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16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3696840" y="1977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706200" y="19782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3725280" y="19814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3735720" y="19821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3747960" y="1983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765240" y="19839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3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780360" y="19850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3792600" y="1987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612240" y="1876680"/>
                <a:ext cx="15840" cy="9180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622320" y="196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637800" y="1879560"/>
                <a:ext cx="15840" cy="91080"/>
              </a:xfrm>
              <a:custGeom>
                <a:avLst/>
                <a:gdLst/>
                <a:ahLst/>
                <a:rect l="l" t="t" r="r" b="b"/>
                <a:pathLst>
                  <a:path w="17" h="96">
                    <a:moveTo>
                      <a:pt x="16" y="0"/>
                    </a:moveTo>
                    <a:lnTo>
                      <a:pt x="16" y="94"/>
                    </a:lnTo>
                    <a:lnTo>
                      <a:pt x="0" y="9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652920" y="1879560"/>
                <a:ext cx="15840" cy="9288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6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669120" y="187956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6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678480" y="187956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692880" y="187956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706200" y="1880640"/>
                <a:ext cx="15840" cy="9756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725280" y="1880640"/>
                <a:ext cx="15840" cy="986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3735720" y="1881720"/>
                <a:ext cx="15840" cy="10044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3747960" y="1881720"/>
                <a:ext cx="15840" cy="1015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3765240" y="1881720"/>
                <a:ext cx="15840" cy="10224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3775680" y="188172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792600" y="188172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3622320" y="1879560"/>
                <a:ext cx="15840" cy="64440"/>
              </a:xfrm>
              <a:custGeom>
                <a:avLst/>
                <a:gdLst/>
                <a:ahLst/>
                <a:rect l="l" t="t" r="r" b="b"/>
                <a:pathLst>
                  <a:path w="17" h="68">
                    <a:moveTo>
                      <a:pt x="16" y="0"/>
                    </a:moveTo>
                    <a:lnTo>
                      <a:pt x="16" y="66"/>
                    </a:lnTo>
                    <a:lnTo>
                      <a:pt x="0" y="6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3625200" y="1957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6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3625200" y="1945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16" y="16"/>
                    </a:lnTo>
                    <a:lnTo>
                      <a:pt x="16" y="5"/>
                    </a:ln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3625200" y="19544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3806280" y="1876680"/>
                <a:ext cx="720" cy="114480"/>
              </a:xfrm>
              <a:custGeom>
                <a:avLst/>
                <a:gdLst/>
                <a:ahLst/>
                <a:rect l="l" t="t" r="r" b="b"/>
                <a:pathLst>
                  <a:path w="1" h="121">
                    <a:moveTo>
                      <a:pt x="0" y="120"/>
                    </a:moveTo>
                    <a:lnTo>
                      <a:pt x="0" y="119"/>
                    </a:lnTo>
                    <a:lnTo>
                      <a:pt x="0" y="0"/>
                    </a:lnTo>
                    <a:lnTo>
                      <a:pt x="0" y="12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615840" y="1875600"/>
                <a:ext cx="720" cy="94680"/>
              </a:xfrm>
              <a:custGeom>
                <a:avLst/>
                <a:gdLst/>
                <a:ahLst/>
                <a:rect l="l" t="t" r="r" b="b"/>
                <a:pathLst>
                  <a:path w="1" h="100">
                    <a:moveTo>
                      <a:pt x="0" y="0"/>
                    </a:moveTo>
                    <a:lnTo>
                      <a:pt x="0" y="99"/>
                    </a:lnTo>
                    <a:lnTo>
                      <a:pt x="0" y="9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3609000" y="1983960"/>
                <a:ext cx="196920" cy="169560"/>
              </a:xfrm>
              <a:custGeom>
                <a:avLst/>
                <a:gdLst/>
                <a:ahLst/>
                <a:rect l="l" t="t" r="r" b="b"/>
                <a:pathLst>
                  <a:path w="207" h="179">
                    <a:moveTo>
                      <a:pt x="0" y="0"/>
                    </a:moveTo>
                    <a:lnTo>
                      <a:pt x="204" y="23"/>
                    </a:lnTo>
                    <a:lnTo>
                      <a:pt x="206" y="178"/>
                    </a:lnTo>
                    <a:lnTo>
                      <a:pt x="0" y="1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3615840" y="1991520"/>
                <a:ext cx="177840" cy="129960"/>
              </a:xfrm>
              <a:custGeom>
                <a:avLst/>
                <a:gdLst/>
                <a:ahLst/>
                <a:rect l="l" t="t" r="r" b="b"/>
                <a:pathLst>
                  <a:path w="187" h="137">
                    <a:moveTo>
                      <a:pt x="0" y="0"/>
                    </a:moveTo>
                    <a:lnTo>
                      <a:pt x="0" y="89"/>
                    </a:lnTo>
                    <a:lnTo>
                      <a:pt x="186" y="136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3615840" y="2010600"/>
                <a:ext cx="177840" cy="1148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82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3615840" y="1991520"/>
                <a:ext cx="177840" cy="131760"/>
              </a:xfrm>
              <a:custGeom>
                <a:avLst/>
                <a:gdLst/>
                <a:ahLst/>
                <a:rect l="l" t="t" r="r" b="b"/>
                <a:pathLst>
                  <a:path w="187" h="139">
                    <a:moveTo>
                      <a:pt x="0" y="0"/>
                    </a:moveTo>
                    <a:lnTo>
                      <a:pt x="0" y="101"/>
                    </a:lnTo>
                    <a:lnTo>
                      <a:pt x="186" y="138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669120" y="2097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3614760" y="1992600"/>
                <a:ext cx="15840" cy="9288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5"/>
                    </a:lnTo>
                    <a:lnTo>
                      <a:pt x="0" y="9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3614760" y="19886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614760" y="20847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612240" y="1994400"/>
                <a:ext cx="15840" cy="88200"/>
              </a:xfrm>
              <a:custGeom>
                <a:avLst/>
                <a:gdLst/>
                <a:ahLst/>
                <a:rect l="l" t="t" r="r" b="b"/>
                <a:pathLst>
                  <a:path w="17" h="93">
                    <a:moveTo>
                      <a:pt x="16" y="0"/>
                    </a:moveTo>
                    <a:lnTo>
                      <a:pt x="16" y="91"/>
                    </a:lnTo>
                    <a:lnTo>
                      <a:pt x="0" y="92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642480" y="1997280"/>
                <a:ext cx="15840" cy="94680"/>
              </a:xfrm>
              <a:custGeom>
                <a:avLst/>
                <a:gdLst/>
                <a:ahLst/>
                <a:rect l="l" t="t" r="r" b="b"/>
                <a:pathLst>
                  <a:path w="17" h="100">
                    <a:moveTo>
                      <a:pt x="16" y="0"/>
                    </a:moveTo>
                    <a:lnTo>
                      <a:pt x="16" y="98"/>
                    </a:lnTo>
                    <a:lnTo>
                      <a:pt x="0" y="99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637800" y="1990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637800" y="2091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637800" y="1997280"/>
                <a:ext cx="15840" cy="9180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4"/>
                    </a:lnTo>
                    <a:lnTo>
                      <a:pt x="0" y="9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652920" y="199836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652920" y="1994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652920" y="2093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652920" y="1998360"/>
                <a:ext cx="15840" cy="93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669120" y="199836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669120" y="1994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669120" y="199908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3681360" y="2001240"/>
                <a:ext cx="15840" cy="986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3681360" y="1995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0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3681360" y="20991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3678480" y="2001240"/>
                <a:ext cx="15840" cy="9792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696840" y="200232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3696840" y="19962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3696840" y="2099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692880" y="200304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3709080" y="2003040"/>
                <a:ext cx="15840" cy="1015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709080" y="19983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3706200" y="2103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706200" y="2004840"/>
                <a:ext cx="15840" cy="9756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3725280" y="2004840"/>
                <a:ext cx="15840" cy="10224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725280" y="1999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725280" y="2106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3725280" y="2004840"/>
                <a:ext cx="15840" cy="10044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3735720" y="200700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3735720" y="2002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3735720" y="2109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3735720" y="2007000"/>
                <a:ext cx="15840" cy="1015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749040" y="2010600"/>
                <a:ext cx="15840" cy="10260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3747960" y="20030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3747960" y="21121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747960" y="2010600"/>
                <a:ext cx="15840" cy="10260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765240" y="201060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765240" y="2004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65240" y="2115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3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765240" y="2010600"/>
                <a:ext cx="15840" cy="10260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3780360" y="2011680"/>
                <a:ext cx="15840" cy="106920"/>
              </a:xfrm>
              <a:custGeom>
                <a:avLst/>
                <a:gdLst/>
                <a:ahLst/>
                <a:rect l="l" t="t" r="r" b="b"/>
                <a:pathLst>
                  <a:path w="17" h="113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3780360" y="2004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780360" y="2117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3775680" y="2011680"/>
                <a:ext cx="15840" cy="10512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3792600" y="2013480"/>
                <a:ext cx="15840" cy="10620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10"/>
                    </a:lnTo>
                    <a:lnTo>
                      <a:pt x="0" y="11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3792600" y="2007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792600" y="21189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0" y="4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792600" y="2013480"/>
                <a:ext cx="15840" cy="10620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625200" y="1995480"/>
                <a:ext cx="15840" cy="9216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625200" y="1989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625200" y="20865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622320" y="2079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622320" y="1996200"/>
                <a:ext cx="15840" cy="63720"/>
              </a:xfrm>
              <a:custGeom>
                <a:avLst/>
                <a:gdLst/>
                <a:ahLst/>
                <a:rect l="l" t="t" r="r" b="b"/>
                <a:pathLst>
                  <a:path w="17" h="67">
                    <a:moveTo>
                      <a:pt x="16" y="0"/>
                    </a:moveTo>
                    <a:lnTo>
                      <a:pt x="16" y="66"/>
                    </a:lnTo>
                    <a:lnTo>
                      <a:pt x="0" y="6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625200" y="2074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3625200" y="2063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16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3625200" y="20703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3806280" y="2011680"/>
                <a:ext cx="720" cy="113760"/>
              </a:xfrm>
              <a:custGeom>
                <a:avLst/>
                <a:gdLst/>
                <a:ahLst/>
                <a:rect l="l" t="t" r="r" b="b"/>
                <a:pathLst>
                  <a:path w="1" h="120">
                    <a:moveTo>
                      <a:pt x="0" y="119"/>
                    </a:moveTo>
                    <a:lnTo>
                      <a:pt x="0" y="118"/>
                    </a:lnTo>
                    <a:lnTo>
                      <a:pt x="0" y="0"/>
                    </a:lnTo>
                    <a:lnTo>
                      <a:pt x="0" y="119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615840" y="1991520"/>
                <a:ext cx="720" cy="95760"/>
              </a:xfrm>
              <a:custGeom>
                <a:avLst/>
                <a:gdLst/>
                <a:ahLst/>
                <a:rect l="l" t="t" r="r" b="b"/>
                <a:pathLst>
                  <a:path w="1" h="101">
                    <a:moveTo>
                      <a:pt x="0" y="0"/>
                    </a:moveTo>
                    <a:lnTo>
                      <a:pt x="0" y="100"/>
                    </a:lnTo>
                    <a:lnTo>
                      <a:pt x="0" y="9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3828240" y="1854720"/>
                <a:ext cx="15840" cy="347400"/>
              </a:xfrm>
              <a:custGeom>
                <a:avLst/>
                <a:gdLst/>
                <a:ahLst/>
                <a:rect l="l" t="t" r="r" b="b"/>
                <a:pathLst>
                  <a:path w="17" h="366">
                    <a:moveTo>
                      <a:pt x="16" y="3"/>
                    </a:moveTo>
                    <a:lnTo>
                      <a:pt x="16" y="365"/>
                    </a:lnTo>
                    <a:lnTo>
                      <a:pt x="0" y="357"/>
                    </a:lnTo>
                    <a:lnTo>
                      <a:pt x="0" y="0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3598920" y="1839960"/>
                <a:ext cx="334800" cy="15840"/>
              </a:xfrm>
              <a:custGeom>
                <a:avLst/>
                <a:gdLst/>
                <a:ahLst/>
                <a:rect l="l" t="t" r="r" b="b"/>
                <a:pathLst>
                  <a:path w="352" h="17">
                    <a:moveTo>
                      <a:pt x="0" y="16"/>
                    </a:moveTo>
                    <a:lnTo>
                      <a:pt x="235" y="14"/>
                    </a:lnTo>
                    <a:lnTo>
                      <a:pt x="351" y="0"/>
                    </a:lnTo>
                    <a:lnTo>
                      <a:pt x="152" y="2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3786120" y="2146320"/>
                <a:ext cx="720" cy="1584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12"/>
                    </a:lnTo>
                    <a:lnTo>
                      <a:pt x="0" y="16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3786120" y="2146320"/>
                <a:ext cx="720" cy="1584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8" name=""/>
            <p:cNvGrpSpPr/>
            <p:nvPr/>
          </p:nvGrpSpPr>
          <p:grpSpPr>
            <a:xfrm>
              <a:off x="4495680" y="2209680"/>
              <a:ext cx="75960" cy="609480"/>
              <a:chOff x="4495680" y="2209680"/>
              <a:chExt cx="75960" cy="609480"/>
            </a:xfrm>
          </p:grpSpPr>
          <p:sp>
            <p:nvSpPr>
              <p:cNvPr id="939" name=""/>
              <p:cNvSpPr/>
              <p:nvPr/>
            </p:nvSpPr>
            <p:spPr>
              <a:xfrm>
                <a:off x="449568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457164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1" name=""/>
            <p:cNvGrpSpPr/>
            <p:nvPr/>
          </p:nvGrpSpPr>
          <p:grpSpPr>
            <a:xfrm>
              <a:off x="3886200" y="2209680"/>
              <a:ext cx="75960" cy="609480"/>
              <a:chOff x="3886200" y="2209680"/>
              <a:chExt cx="75960" cy="609480"/>
            </a:xfrm>
          </p:grpSpPr>
          <p:sp>
            <p:nvSpPr>
              <p:cNvPr id="942" name=""/>
              <p:cNvSpPr/>
              <p:nvPr/>
            </p:nvSpPr>
            <p:spPr>
              <a:xfrm>
                <a:off x="388620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96216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4" name=""/>
            <p:cNvSpPr/>
            <p:nvPr/>
          </p:nvSpPr>
          <p:spPr>
            <a:xfrm>
              <a:off x="2901960" y="2279160"/>
              <a:ext cx="11880" cy="511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3124080" y="4952880"/>
            <a:ext cx="0" cy="838440"/>
          </a:xfrm>
          <a:prstGeom prst="line">
            <a:avLst/>
          </a:prstGeom>
          <a:ln w="76320">
            <a:solidFill>
              <a:srgbClr val="ff99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209520" y="2776680"/>
            <a:ext cx="8715960" cy="2368440"/>
            <a:chOff x="209520" y="2776680"/>
            <a:chExt cx="8715960" cy="2368440"/>
          </a:xfrm>
        </p:grpSpPr>
        <p:sp>
          <p:nvSpPr>
            <p:cNvPr id="947" name=""/>
            <p:cNvSpPr/>
            <p:nvPr/>
          </p:nvSpPr>
          <p:spPr>
            <a:xfrm>
              <a:off x="1173240" y="3749760"/>
              <a:ext cx="257328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3056040" y="3689280"/>
              <a:ext cx="147600" cy="146160"/>
            </a:xfrm>
            <a:prstGeom prst="rect">
              <a:avLst/>
            </a:prstGeom>
            <a:solidFill>
              <a:srgbClr val="990033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49" name="" descr=""/>
            <p:cNvPicPr/>
            <p:nvPr/>
          </p:nvPicPr>
          <p:blipFill>
            <a:blip r:embed="rId3"/>
            <a:stretch/>
          </p:blipFill>
          <p:spPr>
            <a:xfrm>
              <a:off x="914400" y="3083040"/>
              <a:ext cx="49680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0" name=""/>
            <p:cNvSpPr/>
            <p:nvPr/>
          </p:nvSpPr>
          <p:spPr>
            <a:xfrm flipV="1">
              <a:off x="1174680" y="3476160"/>
              <a:ext cx="4680" cy="28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270440" y="3232080"/>
              <a:ext cx="947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Rockwell MT"/>
                </a:rPr>
                <a:t>POTS/ISD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1801080" y="3719520"/>
              <a:ext cx="73080" cy="730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V="1">
              <a:off x="3747960" y="3492360"/>
              <a:ext cx="0" cy="27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4" name=""/>
            <p:cNvGrpSpPr/>
            <p:nvPr/>
          </p:nvGrpSpPr>
          <p:grpSpPr>
            <a:xfrm>
              <a:off x="3894120" y="3376440"/>
              <a:ext cx="1400040" cy="920880"/>
              <a:chOff x="3894120" y="3376440"/>
              <a:chExt cx="1400040" cy="920880"/>
            </a:xfrm>
          </p:grpSpPr>
          <p:sp>
            <p:nvSpPr>
              <p:cNvPr id="955" name=""/>
              <p:cNvSpPr/>
              <p:nvPr/>
            </p:nvSpPr>
            <p:spPr>
              <a:xfrm>
                <a:off x="4260960" y="3791160"/>
                <a:ext cx="709920" cy="50616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260960" y="3791160"/>
                <a:ext cx="709920" cy="50616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093560" y="3432240"/>
                <a:ext cx="394920" cy="28368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093560" y="3432240"/>
                <a:ext cx="394920" cy="28368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894120" y="3611520"/>
                <a:ext cx="487080" cy="40176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3894120" y="3611520"/>
                <a:ext cx="487080" cy="40176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014360" y="3931200"/>
                <a:ext cx="465480" cy="28908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4014360" y="3931200"/>
                <a:ext cx="465480" cy="28908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4808520" y="3629880"/>
                <a:ext cx="485640" cy="34956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808520" y="3629880"/>
                <a:ext cx="485640" cy="34956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610880" y="3432240"/>
                <a:ext cx="483120" cy="36072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4610880" y="3432240"/>
                <a:ext cx="483120" cy="36072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4386600" y="3376440"/>
                <a:ext cx="383040" cy="28368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4386600" y="3376440"/>
                <a:ext cx="383040" cy="28368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4708080" y="3841200"/>
                <a:ext cx="483480" cy="36432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4708080" y="3841200"/>
                <a:ext cx="483480" cy="36432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996360" y="3447720"/>
                <a:ext cx="1197000" cy="79164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2" name=""/>
            <p:cNvSpPr/>
            <p:nvPr/>
          </p:nvSpPr>
          <p:spPr>
            <a:xfrm>
              <a:off x="3789360" y="3776760"/>
              <a:ext cx="1717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733920" y="3875040"/>
              <a:ext cx="1560240" cy="1526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TM-Netzwe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256720" y="4157640"/>
              <a:ext cx="702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ATM/IP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Gatew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75" name="" descr=""/>
            <p:cNvPicPr/>
            <p:nvPr/>
          </p:nvPicPr>
          <p:blipFill>
            <a:blip r:embed="rId4"/>
            <a:stretch/>
          </p:blipFill>
          <p:spPr>
            <a:xfrm>
              <a:off x="7130880" y="3143160"/>
              <a:ext cx="355680" cy="32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6" name="" descr=""/>
            <p:cNvPicPr/>
            <p:nvPr/>
          </p:nvPicPr>
          <p:blipFill>
            <a:blip r:embed="rId5"/>
            <a:stretch/>
          </p:blipFill>
          <p:spPr>
            <a:xfrm>
              <a:off x="7145280" y="4257720"/>
              <a:ext cx="355680" cy="32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flipV="1">
              <a:off x="5991120" y="3315960"/>
              <a:ext cx="113976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991120" y="3792600"/>
              <a:ext cx="1139760" cy="6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9" name=""/>
            <p:cNvGrpSpPr/>
            <p:nvPr/>
          </p:nvGrpSpPr>
          <p:grpSpPr>
            <a:xfrm>
              <a:off x="5327640" y="3502080"/>
              <a:ext cx="558720" cy="608040"/>
              <a:chOff x="5327640" y="3502080"/>
              <a:chExt cx="558720" cy="608040"/>
            </a:xfrm>
          </p:grpSpPr>
          <p:sp>
            <p:nvSpPr>
              <p:cNvPr id="980" name=""/>
              <p:cNvSpPr/>
              <p:nvPr/>
            </p:nvSpPr>
            <p:spPr>
              <a:xfrm>
                <a:off x="5718240" y="3503520"/>
                <a:ext cx="168120" cy="604800"/>
              </a:xfrm>
              <a:custGeom>
                <a:avLst/>
                <a:gdLst/>
                <a:ahLst/>
                <a:rect l="l" t="t" r="r" b="b"/>
                <a:pathLst>
                  <a:path w="106" h="381">
                    <a:moveTo>
                      <a:pt x="0" y="16"/>
                    </a:moveTo>
                    <a:lnTo>
                      <a:pt x="105" y="0"/>
                    </a:lnTo>
                    <a:lnTo>
                      <a:pt x="105" y="311"/>
                    </a:lnTo>
                    <a:lnTo>
                      <a:pt x="0" y="38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5333760" y="3986280"/>
                <a:ext cx="354240" cy="123840"/>
              </a:xfrm>
              <a:custGeom>
                <a:avLst/>
                <a:gdLst/>
                <a:ahLst/>
                <a:rect l="l" t="t" r="r" b="b"/>
                <a:pathLst>
                  <a:path w="223" h="78">
                    <a:moveTo>
                      <a:pt x="0" y="0"/>
                    </a:moveTo>
                    <a:lnTo>
                      <a:pt x="0" y="19"/>
                    </a:lnTo>
                    <a:lnTo>
                      <a:pt x="222" y="77"/>
                    </a:lnTo>
                    <a:lnTo>
                      <a:pt x="222" y="5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5327640" y="3527280"/>
                <a:ext cx="360360" cy="546120"/>
              </a:xfrm>
              <a:custGeom>
                <a:avLst/>
                <a:gdLst/>
                <a:ahLst/>
                <a:rect l="l" t="t" r="r" b="b"/>
                <a:pathLst>
                  <a:path w="227" h="344">
                    <a:moveTo>
                      <a:pt x="0" y="3"/>
                    </a:moveTo>
                    <a:lnTo>
                      <a:pt x="0" y="283"/>
                    </a:lnTo>
                    <a:lnTo>
                      <a:pt x="226" y="343"/>
                    </a:lnTo>
                    <a:lnTo>
                      <a:pt x="226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5344920" y="3551040"/>
                <a:ext cx="328680" cy="217440"/>
              </a:xfrm>
              <a:custGeom>
                <a:avLst/>
                <a:gdLst/>
                <a:ahLst/>
                <a:rect l="l" t="t" r="r" b="b"/>
                <a:pathLst>
                  <a:path w="207" h="137">
                    <a:moveTo>
                      <a:pt x="0" y="0"/>
                    </a:moveTo>
                    <a:lnTo>
                      <a:pt x="206" y="0"/>
                    </a:lnTo>
                    <a:lnTo>
                      <a:pt x="206" y="136"/>
                    </a:lnTo>
                    <a:lnTo>
                      <a:pt x="0" y="1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5356080" y="3562200"/>
                <a:ext cx="297000" cy="1922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5356080" y="3564000"/>
                <a:ext cx="297000" cy="19188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5356080" y="3562200"/>
                <a:ext cx="297000" cy="1922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5354640" y="3564000"/>
                <a:ext cx="27000" cy="156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5371920" y="3564000"/>
                <a:ext cx="27000" cy="156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5400720" y="3564000"/>
                <a:ext cx="27000" cy="16020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5418000" y="3564000"/>
                <a:ext cx="27000" cy="1616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5445000" y="3564000"/>
                <a:ext cx="27000" cy="16668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5465520" y="3564000"/>
                <a:ext cx="27000" cy="16812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5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5491080" y="356868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5511600" y="3568680"/>
                <a:ext cx="27000" cy="16668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5538600" y="3568680"/>
                <a:ext cx="27000" cy="17136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556240" y="3568680"/>
                <a:ext cx="27000" cy="17316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578560" y="3568680"/>
                <a:ext cx="2700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5605560" y="3570120"/>
                <a:ext cx="2664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5630760" y="3570120"/>
                <a:ext cx="27000" cy="17640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5651280" y="3570120"/>
                <a:ext cx="27000" cy="181080"/>
              </a:xfrm>
              <a:custGeom>
                <a:avLst/>
                <a:gdLst/>
                <a:ahLst/>
                <a:rect l="l" t="t" r="r" b="b"/>
                <a:pathLst>
                  <a:path w="17" h="114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5354640" y="3557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5371920" y="3557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53928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4180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4450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46552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549108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55116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5386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55624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576760" y="356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605560" y="356076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630760" y="356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5651280" y="356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5354640" y="3719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5371920" y="3719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5392800" y="3722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5418000" y="3724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5445000" y="37288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465520" y="3732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16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491080" y="3732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5506920" y="3733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5538600" y="37386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5556240" y="3740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5576760" y="374184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5605560" y="374328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3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630760" y="3744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651280" y="3749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349960" y="3564000"/>
                <a:ext cx="27000" cy="15372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367240" y="3708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392800" y="3568680"/>
                <a:ext cx="27000" cy="152280"/>
              </a:xfrm>
              <a:custGeom>
                <a:avLst/>
                <a:gdLst/>
                <a:ahLst/>
                <a:rect l="l" t="t" r="r" b="b"/>
                <a:pathLst>
                  <a:path w="17" h="96">
                    <a:moveTo>
                      <a:pt x="16" y="0"/>
                    </a:moveTo>
                    <a:lnTo>
                      <a:pt x="16" y="94"/>
                    </a:lnTo>
                    <a:lnTo>
                      <a:pt x="0" y="9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418000" y="3568680"/>
                <a:ext cx="27000" cy="15552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6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5445000" y="3568680"/>
                <a:ext cx="27000" cy="156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6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5460840" y="3568680"/>
                <a:ext cx="27000" cy="16200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5484600" y="356868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506920" y="3570120"/>
                <a:ext cx="27000" cy="16344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538600" y="3570120"/>
                <a:ext cx="27000" cy="1652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5556240" y="3571920"/>
                <a:ext cx="27000" cy="16812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576760" y="357192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605560" y="3571920"/>
                <a:ext cx="26640" cy="17136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622840" y="3571920"/>
                <a:ext cx="27000" cy="17280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5651280" y="3571920"/>
                <a:ext cx="2700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5367240" y="3568680"/>
                <a:ext cx="27000" cy="108000"/>
              </a:xfrm>
              <a:custGeom>
                <a:avLst/>
                <a:gdLst/>
                <a:ahLst/>
                <a:rect l="l" t="t" r="r" b="b"/>
                <a:pathLst>
                  <a:path w="17" h="68">
                    <a:moveTo>
                      <a:pt x="16" y="0"/>
                    </a:moveTo>
                    <a:lnTo>
                      <a:pt x="16" y="66"/>
                    </a:lnTo>
                    <a:lnTo>
                      <a:pt x="0" y="6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371920" y="3698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6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371920" y="3678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16" y="16"/>
                    </a:lnTo>
                    <a:lnTo>
                      <a:pt x="16" y="5"/>
                    </a:ln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371920" y="3693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5673600" y="3564000"/>
                <a:ext cx="1800" cy="191880"/>
              </a:xfrm>
              <a:custGeom>
                <a:avLst/>
                <a:gdLst/>
                <a:ahLst/>
                <a:rect l="l" t="t" r="r" b="b"/>
                <a:pathLst>
                  <a:path w="1" h="121">
                    <a:moveTo>
                      <a:pt x="0" y="120"/>
                    </a:moveTo>
                    <a:lnTo>
                      <a:pt x="0" y="119"/>
                    </a:lnTo>
                    <a:lnTo>
                      <a:pt x="0" y="0"/>
                    </a:lnTo>
                    <a:lnTo>
                      <a:pt x="0" y="12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356080" y="3562200"/>
                <a:ext cx="1800" cy="158760"/>
              </a:xfrm>
              <a:custGeom>
                <a:avLst/>
                <a:gdLst/>
                <a:ahLst/>
                <a:rect l="l" t="t" r="r" b="b"/>
                <a:pathLst>
                  <a:path w="1" h="100">
                    <a:moveTo>
                      <a:pt x="0" y="0"/>
                    </a:moveTo>
                    <a:lnTo>
                      <a:pt x="0" y="99"/>
                    </a:lnTo>
                    <a:lnTo>
                      <a:pt x="0" y="9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5344920" y="3743280"/>
                <a:ext cx="328680" cy="284040"/>
              </a:xfrm>
              <a:custGeom>
                <a:avLst/>
                <a:gdLst/>
                <a:ahLst/>
                <a:rect l="l" t="t" r="r" b="b"/>
                <a:pathLst>
                  <a:path w="207" h="179">
                    <a:moveTo>
                      <a:pt x="0" y="0"/>
                    </a:moveTo>
                    <a:lnTo>
                      <a:pt x="204" y="23"/>
                    </a:lnTo>
                    <a:lnTo>
                      <a:pt x="206" y="178"/>
                    </a:lnTo>
                    <a:lnTo>
                      <a:pt x="0" y="1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356080" y="3755880"/>
                <a:ext cx="297000" cy="217440"/>
              </a:xfrm>
              <a:custGeom>
                <a:avLst/>
                <a:gdLst/>
                <a:ahLst/>
                <a:rect l="l" t="t" r="r" b="b"/>
                <a:pathLst>
                  <a:path w="187" h="137">
                    <a:moveTo>
                      <a:pt x="0" y="0"/>
                    </a:moveTo>
                    <a:lnTo>
                      <a:pt x="0" y="89"/>
                    </a:lnTo>
                    <a:lnTo>
                      <a:pt x="186" y="136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356080" y="3787560"/>
                <a:ext cx="297000" cy="1922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82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356080" y="3755880"/>
                <a:ext cx="297000" cy="220680"/>
              </a:xfrm>
              <a:custGeom>
                <a:avLst/>
                <a:gdLst/>
                <a:ahLst/>
                <a:rect l="l" t="t" r="r" b="b"/>
                <a:pathLst>
                  <a:path w="187" h="139">
                    <a:moveTo>
                      <a:pt x="0" y="0"/>
                    </a:moveTo>
                    <a:lnTo>
                      <a:pt x="0" y="101"/>
                    </a:lnTo>
                    <a:lnTo>
                      <a:pt x="186" y="138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445000" y="3932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5354640" y="3757680"/>
                <a:ext cx="27000" cy="15552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5"/>
                    </a:lnTo>
                    <a:lnTo>
                      <a:pt x="0" y="9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354640" y="3751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354640" y="3911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349960" y="3760560"/>
                <a:ext cx="27000" cy="147960"/>
              </a:xfrm>
              <a:custGeom>
                <a:avLst/>
                <a:gdLst/>
                <a:ahLst/>
                <a:rect l="l" t="t" r="r" b="b"/>
                <a:pathLst>
                  <a:path w="17" h="93">
                    <a:moveTo>
                      <a:pt x="16" y="0"/>
                    </a:moveTo>
                    <a:lnTo>
                      <a:pt x="16" y="91"/>
                    </a:lnTo>
                    <a:lnTo>
                      <a:pt x="0" y="92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400720" y="3765600"/>
                <a:ext cx="27000" cy="158760"/>
              </a:xfrm>
              <a:custGeom>
                <a:avLst/>
                <a:gdLst/>
                <a:ahLst/>
                <a:rect l="l" t="t" r="r" b="b"/>
                <a:pathLst>
                  <a:path w="17" h="100">
                    <a:moveTo>
                      <a:pt x="16" y="0"/>
                    </a:moveTo>
                    <a:lnTo>
                      <a:pt x="16" y="98"/>
                    </a:lnTo>
                    <a:lnTo>
                      <a:pt x="0" y="99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5392800" y="3754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392800" y="3922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5392800" y="3765600"/>
                <a:ext cx="27000" cy="15372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4"/>
                    </a:lnTo>
                    <a:lnTo>
                      <a:pt x="0" y="9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5418000" y="3767040"/>
                <a:ext cx="27000" cy="16020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418000" y="3760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418000" y="3925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418000" y="3767040"/>
                <a:ext cx="27000" cy="15732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5445000" y="3767040"/>
                <a:ext cx="27000" cy="16200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445000" y="3760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445000" y="3768480"/>
                <a:ext cx="27000" cy="1605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5465520" y="3771720"/>
                <a:ext cx="27000" cy="1652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5465520" y="3762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0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5465520" y="393552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5460840" y="3771720"/>
                <a:ext cx="27000" cy="16380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5491080" y="377352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491080" y="3763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491080" y="3936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484600" y="3774960"/>
                <a:ext cx="27000" cy="16200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511600" y="377496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511600" y="3767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5506920" y="3943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5506920" y="3778200"/>
                <a:ext cx="27000" cy="16344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5538600" y="3778200"/>
                <a:ext cx="27000" cy="17136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5538600" y="3768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538600" y="3948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5538600" y="3778200"/>
                <a:ext cx="27000" cy="16812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5556240" y="3781440"/>
                <a:ext cx="27000" cy="17280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5556240" y="3773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5556240" y="3952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5556240" y="378144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5578560" y="3787560"/>
                <a:ext cx="27000" cy="1717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5576760" y="3774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5576760" y="3957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5576760" y="3787560"/>
                <a:ext cx="27000" cy="1717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5605560" y="3787560"/>
                <a:ext cx="26640" cy="17316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605560" y="377820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5605560" y="396216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3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5605560" y="3787560"/>
                <a:ext cx="26640" cy="1717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5630760" y="3789360"/>
                <a:ext cx="27000" cy="179280"/>
              </a:xfrm>
              <a:custGeom>
                <a:avLst/>
                <a:gdLst/>
                <a:ahLst/>
                <a:rect l="l" t="t" r="r" b="b"/>
                <a:pathLst>
                  <a:path w="17" h="113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5630760" y="3778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5630760" y="3967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5622840" y="3789360"/>
                <a:ext cx="27000" cy="17604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5651280" y="3792600"/>
                <a:ext cx="27000" cy="17784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10"/>
                    </a:lnTo>
                    <a:lnTo>
                      <a:pt x="0" y="11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5651280" y="3781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651280" y="3968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0" y="4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651280" y="3792600"/>
                <a:ext cx="27000" cy="17784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371920" y="3762360"/>
                <a:ext cx="27000" cy="15408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371920" y="3752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371920" y="3914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367240" y="3902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367240" y="3763800"/>
                <a:ext cx="27000" cy="106560"/>
              </a:xfrm>
              <a:custGeom>
                <a:avLst/>
                <a:gdLst/>
                <a:ahLst/>
                <a:rect l="l" t="t" r="r" b="b"/>
                <a:pathLst>
                  <a:path w="17" h="67">
                    <a:moveTo>
                      <a:pt x="16" y="0"/>
                    </a:moveTo>
                    <a:lnTo>
                      <a:pt x="16" y="66"/>
                    </a:lnTo>
                    <a:lnTo>
                      <a:pt x="0" y="6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5371920" y="3894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371920" y="3876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16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371920" y="3887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673600" y="3789360"/>
                <a:ext cx="1800" cy="190440"/>
              </a:xfrm>
              <a:custGeom>
                <a:avLst/>
                <a:gdLst/>
                <a:ahLst/>
                <a:rect l="l" t="t" r="r" b="b"/>
                <a:pathLst>
                  <a:path w="1" h="120">
                    <a:moveTo>
                      <a:pt x="0" y="119"/>
                    </a:moveTo>
                    <a:lnTo>
                      <a:pt x="0" y="118"/>
                    </a:lnTo>
                    <a:lnTo>
                      <a:pt x="0" y="0"/>
                    </a:lnTo>
                    <a:lnTo>
                      <a:pt x="0" y="119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356080" y="3755880"/>
                <a:ext cx="1800" cy="160560"/>
              </a:xfrm>
              <a:custGeom>
                <a:avLst/>
                <a:gdLst/>
                <a:ahLst/>
                <a:rect l="l" t="t" r="r" b="b"/>
                <a:pathLst>
                  <a:path w="1" h="101">
                    <a:moveTo>
                      <a:pt x="0" y="0"/>
                    </a:moveTo>
                    <a:lnTo>
                      <a:pt x="0" y="100"/>
                    </a:lnTo>
                    <a:lnTo>
                      <a:pt x="0" y="9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5710320" y="3527280"/>
                <a:ext cx="27000" cy="581040"/>
              </a:xfrm>
              <a:custGeom>
                <a:avLst/>
                <a:gdLst/>
                <a:ahLst/>
                <a:rect l="l" t="t" r="r" b="b"/>
                <a:pathLst>
                  <a:path w="17" h="366">
                    <a:moveTo>
                      <a:pt x="16" y="3"/>
                    </a:moveTo>
                    <a:lnTo>
                      <a:pt x="16" y="365"/>
                    </a:lnTo>
                    <a:lnTo>
                      <a:pt x="0" y="357"/>
                    </a:lnTo>
                    <a:lnTo>
                      <a:pt x="0" y="0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5327640" y="3502080"/>
                <a:ext cx="558720" cy="27000"/>
              </a:xfrm>
              <a:custGeom>
                <a:avLst/>
                <a:gdLst/>
                <a:ahLst/>
                <a:rect l="l" t="t" r="r" b="b"/>
                <a:pathLst>
                  <a:path w="352" h="17">
                    <a:moveTo>
                      <a:pt x="0" y="16"/>
                    </a:moveTo>
                    <a:lnTo>
                      <a:pt x="235" y="14"/>
                    </a:lnTo>
                    <a:lnTo>
                      <a:pt x="351" y="0"/>
                    </a:lnTo>
                    <a:lnTo>
                      <a:pt x="152" y="2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5640480" y="4014720"/>
                <a:ext cx="1440" cy="2700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12"/>
                    </a:lnTo>
                    <a:lnTo>
                      <a:pt x="0" y="16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640480" y="4014720"/>
                <a:ext cx="1440" cy="2700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9" name=""/>
            <p:cNvSpPr/>
            <p:nvPr/>
          </p:nvSpPr>
          <p:spPr>
            <a:xfrm>
              <a:off x="7044120" y="3475080"/>
              <a:ext cx="58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Rockwell MT"/>
                </a:rPr>
                <a:t>IAP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054560" y="4578480"/>
              <a:ext cx="58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Rockwell MT"/>
                </a:rPr>
                <a:t>IAP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1" name=""/>
            <p:cNvGrpSpPr/>
            <p:nvPr/>
          </p:nvGrpSpPr>
          <p:grpSpPr>
            <a:xfrm>
              <a:off x="7679160" y="2776680"/>
              <a:ext cx="1246320" cy="2221200"/>
              <a:chOff x="7679160" y="2776680"/>
              <a:chExt cx="1246320" cy="2221200"/>
            </a:xfrm>
          </p:grpSpPr>
          <p:sp>
            <p:nvSpPr>
              <p:cNvPr id="1122" name=""/>
              <p:cNvSpPr/>
              <p:nvPr/>
            </p:nvSpPr>
            <p:spPr>
              <a:xfrm>
                <a:off x="8033760" y="3776760"/>
                <a:ext cx="551160" cy="12211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8033760" y="3776760"/>
                <a:ext cx="551160" cy="12211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903440" y="2910960"/>
                <a:ext cx="307080" cy="68400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903440" y="2910960"/>
                <a:ext cx="307080" cy="68400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748640" y="3344040"/>
                <a:ext cx="378360" cy="96984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748640" y="3344040"/>
                <a:ext cx="378360" cy="96984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841880" y="4114440"/>
                <a:ext cx="361800" cy="69696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841880" y="4114440"/>
                <a:ext cx="361800" cy="69696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8458920" y="3387240"/>
                <a:ext cx="376920" cy="84420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8458920" y="3387240"/>
                <a:ext cx="376920" cy="84420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8305200" y="2910960"/>
                <a:ext cx="375840" cy="86976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8305200" y="2910960"/>
                <a:ext cx="375840" cy="86976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8130960" y="2776680"/>
                <a:ext cx="297360" cy="68400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8130960" y="2776680"/>
                <a:ext cx="297360" cy="68400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8380800" y="3897720"/>
                <a:ext cx="375480" cy="87948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8380800" y="3897720"/>
                <a:ext cx="375480" cy="87948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828200" y="2950200"/>
                <a:ext cx="929880" cy="190836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679160" y="3707280"/>
                <a:ext cx="1246320" cy="1828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nterne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0" name=""/>
            <p:cNvSpPr/>
            <p:nvPr/>
          </p:nvSpPr>
          <p:spPr>
            <a:xfrm>
              <a:off x="7483320" y="3316320"/>
              <a:ext cx="587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497720" y="4421160"/>
              <a:ext cx="587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354840" y="4114800"/>
              <a:ext cx="8481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ccess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ultiplex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3" name=""/>
            <p:cNvGrpSpPr/>
            <p:nvPr/>
          </p:nvGrpSpPr>
          <p:grpSpPr>
            <a:xfrm>
              <a:off x="3527280" y="3546360"/>
              <a:ext cx="301320" cy="522000"/>
              <a:chOff x="3527280" y="3546360"/>
              <a:chExt cx="301320" cy="522000"/>
            </a:xfrm>
          </p:grpSpPr>
          <p:sp>
            <p:nvSpPr>
              <p:cNvPr id="1144" name=""/>
              <p:cNvSpPr/>
              <p:nvPr/>
            </p:nvSpPr>
            <p:spPr>
              <a:xfrm>
                <a:off x="3527280" y="3546360"/>
                <a:ext cx="301320" cy="522000"/>
              </a:xfrm>
              <a:prstGeom prst="rect">
                <a:avLst/>
              </a:prstGeom>
              <a:solidFill>
                <a:srgbClr val="339966"/>
              </a:solidFill>
              <a:ln w="9360">
                <a:solidFill>
                  <a:srgbClr val="008000"/>
                </a:solidFill>
                <a:miter/>
              </a:ln>
              <a:effectLst>
                <a:outerShdw dist="17819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3527280" y="3633480"/>
                <a:ext cx="142200" cy="141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  <a:effectLst>
                <a:outerShdw dist="28496" dir="17774481" blurRad="0" rotWithShape="0">
                  <a:srgbClr val="0066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3527280" y="3839760"/>
                <a:ext cx="142200" cy="141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  <a:effectLst>
                <a:outerShdw dist="28496" dir="17774481" blurRad="0" rotWithShape="0">
                  <a:srgbClr val="0066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7" name=""/>
            <p:cNvGrpSpPr/>
            <p:nvPr/>
          </p:nvGrpSpPr>
          <p:grpSpPr>
            <a:xfrm>
              <a:off x="1976400" y="3463920"/>
              <a:ext cx="1851120" cy="631800"/>
              <a:chOff x="1976400" y="3463920"/>
              <a:chExt cx="1851120" cy="631800"/>
            </a:xfrm>
          </p:grpSpPr>
          <p:sp>
            <p:nvSpPr>
              <p:cNvPr id="1148" name=""/>
              <p:cNvSpPr/>
              <p:nvPr/>
            </p:nvSpPr>
            <p:spPr>
              <a:xfrm>
                <a:off x="2843280" y="3537000"/>
                <a:ext cx="523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2852640" y="4013280"/>
                <a:ext cx="524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3375000" y="3875040"/>
                <a:ext cx="45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3363840" y="3668760"/>
                <a:ext cx="444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 flipH="1">
                <a:off x="3070440" y="3463920"/>
                <a:ext cx="147600" cy="146160"/>
              </a:xfrm>
              <a:prstGeom prst="rect">
                <a:avLst/>
              </a:prstGeom>
              <a:solidFill>
                <a:srgbClr val="990033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flipH="1">
                <a:off x="3070440" y="3949560"/>
                <a:ext cx="147600" cy="146160"/>
              </a:xfrm>
              <a:prstGeom prst="rect">
                <a:avLst/>
              </a:prstGeom>
              <a:solidFill>
                <a:srgbClr val="990033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3367080" y="3537000"/>
                <a:ext cx="0" cy="13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3375000" y="3875040"/>
                <a:ext cx="0" cy="13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6" name=""/>
              <p:cNvGrpSpPr/>
              <p:nvPr/>
            </p:nvGrpSpPr>
            <p:grpSpPr>
              <a:xfrm>
                <a:off x="1976400" y="3665520"/>
                <a:ext cx="998280" cy="219240"/>
                <a:chOff x="1976400" y="3665520"/>
                <a:chExt cx="998280" cy="219240"/>
              </a:xfrm>
            </p:grpSpPr>
            <p:sp>
              <p:nvSpPr>
                <p:cNvPr id="1157" name=""/>
                <p:cNvSpPr/>
                <p:nvPr/>
              </p:nvSpPr>
              <p:spPr>
                <a:xfrm>
                  <a:off x="1976400" y="3665520"/>
                  <a:ext cx="134280" cy="2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2048760" y="3665520"/>
                  <a:ext cx="778320" cy="219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59" name=""/>
                <p:cNvGrpSpPr/>
                <p:nvPr/>
              </p:nvGrpSpPr>
              <p:grpSpPr>
                <a:xfrm>
                  <a:off x="2206080" y="3665520"/>
                  <a:ext cx="116280" cy="219240"/>
                  <a:chOff x="2206080" y="3665520"/>
                  <a:chExt cx="116280" cy="219240"/>
                </a:xfrm>
              </p:grpSpPr>
              <p:sp>
                <p:nvSpPr>
                  <p:cNvPr id="1160" name=""/>
                  <p:cNvSpPr/>
                  <p:nvPr/>
                </p:nvSpPr>
                <p:spPr>
                  <a:xfrm>
                    <a:off x="2206080" y="3665520"/>
                    <a:ext cx="115200" cy="219240"/>
                  </a:xfrm>
                  <a:prstGeom prst="ellipse">
                    <a:avLst/>
                  </a:prstGeom>
                  <a:solidFill>
                    <a:srgbClr val="77777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10400" y="3674520"/>
                    <a:ext cx="111960" cy="20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16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263680" y="3675600"/>
                  <a:ext cx="563760" cy="20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3" name=""/>
                <p:cNvSpPr/>
                <p:nvPr/>
              </p:nvSpPr>
              <p:spPr>
                <a:xfrm>
                  <a:off x="2256120" y="3876480"/>
                  <a:ext cx="545760" cy="792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2263680" y="3665520"/>
                  <a:ext cx="531000" cy="900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2256120" y="3665520"/>
                  <a:ext cx="532800" cy="792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 rot="10800000">
                  <a:off x="2223360" y="3703320"/>
                  <a:ext cx="444600" cy="53280"/>
                </a:xfrm>
                <a:custGeom>
                  <a:avLst/>
                  <a:gdLst/>
                  <a:ahLst/>
                  <a:rect l="l" t="t" r="r" b="b"/>
                  <a:pathLst>
                    <a:path w="580" h="128">
                      <a:moveTo>
                        <a:pt x="80" y="0"/>
                      </a:moveTo>
                      <a:lnTo>
                        <a:pt x="80" y="31"/>
                      </a:lnTo>
                      <a:lnTo>
                        <a:pt x="579" y="31"/>
                      </a:lnTo>
                      <a:lnTo>
                        <a:pt x="579" y="96"/>
                      </a:lnTo>
                      <a:lnTo>
                        <a:pt x="80" y="96"/>
                      </a:lnTo>
                      <a:lnTo>
                        <a:pt x="80" y="127"/>
                      </a:lnTo>
                      <a:lnTo>
                        <a:pt x="0" y="63"/>
                      </a:lnTo>
                      <a:lnTo>
                        <a:pt x="8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84df84"/>
                    </a:gs>
                    <a:gs pos="100000">
                      <a:srgbClr val="33cc33"/>
                    </a:gs>
                  </a:gsLst>
                  <a:lin ang="108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2284920" y="3727080"/>
                  <a:ext cx="323640" cy="1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920" bIns="-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2754360" y="3665520"/>
                  <a:ext cx="95760" cy="2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2802240" y="3665520"/>
                  <a:ext cx="172440" cy="219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2214000" y="3676680"/>
                  <a:ext cx="94680" cy="19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4455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44557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 rot="10800000">
                  <a:off x="2282400" y="3761640"/>
                  <a:ext cx="444600" cy="104040"/>
                </a:xfrm>
                <a:custGeom>
                  <a:avLst/>
                  <a:gdLst/>
                  <a:ahLst/>
                  <a:rect l="l" t="t" r="r" b="b"/>
                  <a:pathLst>
                    <a:path w="581" h="251">
                      <a:moveTo>
                        <a:pt x="0" y="30"/>
                      </a:moveTo>
                      <a:lnTo>
                        <a:pt x="502" y="30"/>
                      </a:lnTo>
                      <a:lnTo>
                        <a:pt x="502" y="0"/>
                      </a:lnTo>
                      <a:lnTo>
                        <a:pt x="580" y="119"/>
                      </a:lnTo>
                      <a:lnTo>
                        <a:pt x="502" y="250"/>
                      </a:lnTo>
                      <a:lnTo>
                        <a:pt x="501" y="216"/>
                      </a:lnTo>
                      <a:lnTo>
                        <a:pt x="21" y="214"/>
                      </a:lnTo>
                      <a:lnTo>
                        <a:pt x="17" y="189"/>
                      </a:lnTo>
                      <a:lnTo>
                        <a:pt x="12" y="170"/>
                      </a:lnTo>
                      <a:lnTo>
                        <a:pt x="8" y="150"/>
                      </a:lnTo>
                      <a:lnTo>
                        <a:pt x="2" y="107"/>
                      </a:lnTo>
                      <a:lnTo>
                        <a:pt x="1" y="78"/>
                      </a:lnTo>
                      <a:lnTo>
                        <a:pt x="0" y="55"/>
                      </a:lnTo>
                    </a:path>
                  </a:pathLst>
                </a:custGeom>
                <a:gradFill rotWithShape="0">
                  <a:gsLst>
                    <a:gs pos="0">
                      <a:srgbClr val="a2c1fe"/>
                    </a:gs>
                    <a:gs pos="100000">
                      <a:srgbClr val="cfdffd"/>
                    </a:gs>
                  </a:gsLst>
                  <a:lin ang="108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2214000" y="3670920"/>
                  <a:ext cx="90360" cy="202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625" y="21599"/>
                      </a:moveTo>
                      <a:arcTo wR="10800" hR="10800" stAng="5455668" swAng="53443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25" y="21599"/>
                      </a:moveTo>
                      <a:arcTo wR="10800" hR="10800" stAng="5455668" swAng="53443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73" name=""/>
            <p:cNvGrpSpPr/>
            <p:nvPr/>
          </p:nvGrpSpPr>
          <p:grpSpPr>
            <a:xfrm>
              <a:off x="209520" y="3681360"/>
              <a:ext cx="1182240" cy="1191960"/>
              <a:chOff x="209520" y="3681360"/>
              <a:chExt cx="1182240" cy="1191960"/>
            </a:xfrm>
          </p:grpSpPr>
          <p:sp>
            <p:nvSpPr>
              <p:cNvPr id="1174" name=""/>
              <p:cNvSpPr/>
              <p:nvPr/>
            </p:nvSpPr>
            <p:spPr>
              <a:xfrm>
                <a:off x="1025640" y="3776760"/>
                <a:ext cx="34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75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52360" y="3681360"/>
                <a:ext cx="219240" cy="200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76" name=""/>
              <p:cNvGrpSpPr/>
              <p:nvPr/>
            </p:nvGrpSpPr>
            <p:grpSpPr>
              <a:xfrm>
                <a:off x="922320" y="3708360"/>
                <a:ext cx="469440" cy="115920"/>
                <a:chOff x="922320" y="3708360"/>
                <a:chExt cx="469440" cy="115920"/>
              </a:xfrm>
            </p:grpSpPr>
            <p:sp>
              <p:nvSpPr>
                <p:cNvPr id="1177" name=""/>
                <p:cNvSpPr/>
                <p:nvPr/>
              </p:nvSpPr>
              <p:spPr>
                <a:xfrm>
                  <a:off x="945720" y="3726000"/>
                  <a:ext cx="443880" cy="27000"/>
                </a:xfrm>
                <a:custGeom>
                  <a:avLst/>
                  <a:gdLst/>
                  <a:ahLst/>
                  <a:rect l="l" t="t" r="r" b="b"/>
                  <a:pathLst>
                    <a:path w="1153" h="111">
                      <a:moveTo>
                        <a:pt x="0" y="111"/>
                      </a:moveTo>
                      <a:lnTo>
                        <a:pt x="194" y="0"/>
                      </a:lnTo>
                      <a:lnTo>
                        <a:pt x="963" y="0"/>
                      </a:lnTo>
                      <a:lnTo>
                        <a:pt x="1153" y="111"/>
                      </a:lnTo>
                      <a:lnTo>
                        <a:pt x="3" y="111"/>
                      </a:lnTo>
                      <a:lnTo>
                        <a:pt x="0" y="111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943560" y="3722760"/>
                  <a:ext cx="79560" cy="31680"/>
                </a:xfrm>
                <a:custGeom>
                  <a:avLst/>
                  <a:gdLst/>
                  <a:ahLst/>
                  <a:rect l="l" t="t" r="r" b="b"/>
                  <a:pathLst>
                    <a:path w="206" h="133">
                      <a:moveTo>
                        <a:pt x="200" y="0"/>
                      </a:moveTo>
                      <a:lnTo>
                        <a:pt x="194" y="2"/>
                      </a:lnTo>
                      <a:lnTo>
                        <a:pt x="0" y="114"/>
                      </a:lnTo>
                      <a:lnTo>
                        <a:pt x="11" y="133"/>
                      </a:lnTo>
                      <a:lnTo>
                        <a:pt x="206" y="21"/>
                      </a:lnTo>
                      <a:lnTo>
                        <a:pt x="200" y="23"/>
                      </a:lnTo>
                      <a:lnTo>
                        <a:pt x="200" y="0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1020600" y="3722760"/>
                  <a:ext cx="298080" cy="4680"/>
                </a:xfrm>
                <a:custGeom>
                  <a:avLst/>
                  <a:gdLst/>
                  <a:ahLst/>
                  <a:rect l="l" t="t" r="r" b="b"/>
                  <a:pathLst>
                    <a:path w="775" h="23">
                      <a:moveTo>
                        <a:pt x="775" y="2"/>
                      </a:moveTo>
                      <a:lnTo>
                        <a:pt x="769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769" y="23"/>
                      </a:lnTo>
                      <a:lnTo>
                        <a:pt x="763" y="21"/>
                      </a:lnTo>
                      <a:lnTo>
                        <a:pt x="775" y="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1314720" y="3722760"/>
                  <a:ext cx="77040" cy="33120"/>
                </a:xfrm>
                <a:custGeom>
                  <a:avLst/>
                  <a:gdLst/>
                  <a:ahLst/>
                  <a:rect l="l" t="t" r="r" b="b"/>
                  <a:pathLst>
                    <a:path w="202" h="133">
                      <a:moveTo>
                        <a:pt x="196" y="133"/>
                      </a:moveTo>
                      <a:lnTo>
                        <a:pt x="202" y="112"/>
                      </a:lnTo>
                      <a:lnTo>
                        <a:pt x="12" y="0"/>
                      </a:lnTo>
                      <a:lnTo>
                        <a:pt x="0" y="19"/>
                      </a:lnTo>
                      <a:lnTo>
                        <a:pt x="190" y="131"/>
                      </a:lnTo>
                      <a:lnTo>
                        <a:pt x="196" y="110"/>
                      </a:lnTo>
                      <a:lnTo>
                        <a:pt x="196" y="13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948240" y="3749760"/>
                  <a:ext cx="441360" cy="6120"/>
                </a:xfrm>
                <a:custGeom>
                  <a:avLst/>
                  <a:gdLst/>
                  <a:ahLst/>
                  <a:rect l="l" t="t" r="r" b="b"/>
                  <a:pathLst>
                    <a:path w="1150" h="23">
                      <a:moveTo>
                        <a:pt x="0" y="23"/>
                      </a:moveTo>
                      <a:lnTo>
                        <a:pt x="0" y="23"/>
                      </a:lnTo>
                      <a:lnTo>
                        <a:pt x="1150" y="23"/>
                      </a:lnTo>
                      <a:lnTo>
                        <a:pt x="115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943560" y="374976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1" h="23">
                      <a:moveTo>
                        <a:pt x="0" y="2"/>
                      </a:moveTo>
                      <a:lnTo>
                        <a:pt x="6" y="23"/>
                      </a:lnTo>
                      <a:lnTo>
                        <a:pt x="9" y="2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11" y="21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948240" y="3753000"/>
                  <a:ext cx="441360" cy="7128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948240" y="3753000"/>
                  <a:ext cx="441360" cy="71280"/>
                </a:xfrm>
                <a:prstGeom prst="rect">
                  <a:avLst/>
                </a:prstGeom>
                <a:noFill/>
                <a:ln w="0">
                  <a:solidFill>
                    <a:srgbClr val="e5e5e5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997200" y="3763800"/>
                  <a:ext cx="342720" cy="4932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997200" y="3809880"/>
                  <a:ext cx="345240" cy="6480"/>
                </a:xfrm>
                <a:custGeom>
                  <a:avLst/>
                  <a:gdLst/>
                  <a:ahLst/>
                  <a:rect l="l" t="t" r="r" b="b"/>
                  <a:pathLst>
                    <a:path w="903" h="23">
                      <a:moveTo>
                        <a:pt x="880" y="12"/>
                      </a:moveTo>
                      <a:lnTo>
                        <a:pt x="892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892" y="23"/>
                      </a:lnTo>
                      <a:lnTo>
                        <a:pt x="903" y="12"/>
                      </a:lnTo>
                      <a:lnTo>
                        <a:pt x="892" y="23"/>
                      </a:lnTo>
                      <a:lnTo>
                        <a:pt x="903" y="23"/>
                      </a:lnTo>
                      <a:lnTo>
                        <a:pt x="903" y="12"/>
                      </a:lnTo>
                      <a:lnTo>
                        <a:pt x="880" y="1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1335240" y="3760920"/>
                  <a:ext cx="7200" cy="5220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2" y="23"/>
                      </a:moveTo>
                      <a:lnTo>
                        <a:pt x="0" y="11"/>
                      </a:lnTo>
                      <a:lnTo>
                        <a:pt x="0" y="212"/>
                      </a:lnTo>
                      <a:lnTo>
                        <a:pt x="23" y="212"/>
                      </a:lnTo>
                      <a:lnTo>
                        <a:pt x="23" y="11"/>
                      </a:lnTo>
                      <a:lnTo>
                        <a:pt x="12" y="0"/>
                      </a:lnTo>
                      <a:lnTo>
                        <a:pt x="23" y="11"/>
                      </a:lnTo>
                      <a:lnTo>
                        <a:pt x="23" y="0"/>
                      </a:lnTo>
                      <a:lnTo>
                        <a:pt x="12" y="0"/>
                      </a:lnTo>
                      <a:lnTo>
                        <a:pt x="12" y="2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992880" y="3760920"/>
                  <a:ext cx="347040" cy="6120"/>
                </a:xfrm>
                <a:custGeom>
                  <a:avLst/>
                  <a:gdLst/>
                  <a:ahLst/>
                  <a:rect l="l" t="t" r="r" b="b"/>
                  <a:pathLst>
                    <a:path w="903" h="23">
                      <a:moveTo>
                        <a:pt x="23" y="11"/>
                      </a:moveTo>
                      <a:lnTo>
                        <a:pt x="11" y="23"/>
                      </a:lnTo>
                      <a:lnTo>
                        <a:pt x="903" y="23"/>
                      </a:lnTo>
                      <a:lnTo>
                        <a:pt x="903" y="0"/>
                      </a:lnTo>
                      <a:lnTo>
                        <a:pt x="11" y="0"/>
                      </a:lnTo>
                      <a:lnTo>
                        <a:pt x="0" y="11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23" y="11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992880" y="3763800"/>
                  <a:ext cx="9000" cy="5256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1" y="189"/>
                      </a:moveTo>
                      <a:lnTo>
                        <a:pt x="23" y="201"/>
                      </a:lnTo>
                      <a:lnTo>
                        <a:pt x="23" y="0"/>
                      </a:lnTo>
                      <a:lnTo>
                        <a:pt x="0" y="0"/>
                      </a:lnTo>
                      <a:lnTo>
                        <a:pt x="0" y="201"/>
                      </a:lnTo>
                      <a:lnTo>
                        <a:pt x="11" y="212"/>
                      </a:lnTo>
                      <a:lnTo>
                        <a:pt x="0" y="201"/>
                      </a:lnTo>
                      <a:lnTo>
                        <a:pt x="0" y="212"/>
                      </a:lnTo>
                      <a:lnTo>
                        <a:pt x="11" y="212"/>
                      </a:lnTo>
                      <a:lnTo>
                        <a:pt x="11" y="189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924840" y="3711600"/>
                  <a:ext cx="443520" cy="27000"/>
                </a:xfrm>
                <a:custGeom>
                  <a:avLst/>
                  <a:gdLst/>
                  <a:ahLst/>
                  <a:rect l="l" t="t" r="r" b="b"/>
                  <a:pathLst>
                    <a:path w="1153" h="112">
                      <a:moveTo>
                        <a:pt x="0" y="112"/>
                      </a:moveTo>
                      <a:lnTo>
                        <a:pt x="195" y="0"/>
                      </a:lnTo>
                      <a:lnTo>
                        <a:pt x="963" y="0"/>
                      </a:lnTo>
                      <a:lnTo>
                        <a:pt x="1153" y="112"/>
                      </a:lnTo>
                      <a:lnTo>
                        <a:pt x="3" y="112"/>
                      </a:lnTo>
                      <a:lnTo>
                        <a:pt x="0" y="11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922320" y="3708360"/>
                  <a:ext cx="79560" cy="31680"/>
                </a:xfrm>
                <a:custGeom>
                  <a:avLst/>
                  <a:gdLst/>
                  <a:ahLst/>
                  <a:rect l="l" t="t" r="r" b="b"/>
                  <a:pathLst>
                    <a:path w="206" h="133">
                      <a:moveTo>
                        <a:pt x="201" y="0"/>
                      </a:moveTo>
                      <a:lnTo>
                        <a:pt x="195" y="3"/>
                      </a:lnTo>
                      <a:lnTo>
                        <a:pt x="0" y="115"/>
                      </a:lnTo>
                      <a:lnTo>
                        <a:pt x="12" y="133"/>
                      </a:lnTo>
                      <a:lnTo>
                        <a:pt x="206" y="21"/>
                      </a:lnTo>
                      <a:lnTo>
                        <a:pt x="201" y="24"/>
                      </a:lnTo>
                      <a:lnTo>
                        <a:pt x="201" y="0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999720" y="3708360"/>
                  <a:ext cx="295200" cy="4680"/>
                </a:xfrm>
                <a:custGeom>
                  <a:avLst/>
                  <a:gdLst/>
                  <a:ahLst/>
                  <a:rect l="l" t="t" r="r" b="b"/>
                  <a:pathLst>
                    <a:path w="774" h="24">
                      <a:moveTo>
                        <a:pt x="774" y="3"/>
                      </a:moveTo>
                      <a:lnTo>
                        <a:pt x="768" y="0"/>
                      </a:lnTo>
                      <a:lnTo>
                        <a:pt x="0" y="0"/>
                      </a:lnTo>
                      <a:lnTo>
                        <a:pt x="0" y="24"/>
                      </a:lnTo>
                      <a:lnTo>
                        <a:pt x="768" y="24"/>
                      </a:lnTo>
                      <a:lnTo>
                        <a:pt x="762" y="21"/>
                      </a:lnTo>
                      <a:lnTo>
                        <a:pt x="774" y="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1290960" y="3708360"/>
                  <a:ext cx="79560" cy="33480"/>
                </a:xfrm>
                <a:custGeom>
                  <a:avLst/>
                  <a:gdLst/>
                  <a:ahLst/>
                  <a:rect l="l" t="t" r="r" b="b"/>
                  <a:pathLst>
                    <a:path w="202" h="132">
                      <a:moveTo>
                        <a:pt x="196" y="132"/>
                      </a:moveTo>
                      <a:lnTo>
                        <a:pt x="202" y="112"/>
                      </a:lnTo>
                      <a:lnTo>
                        <a:pt x="12" y="0"/>
                      </a:lnTo>
                      <a:lnTo>
                        <a:pt x="0" y="18"/>
                      </a:lnTo>
                      <a:lnTo>
                        <a:pt x="191" y="130"/>
                      </a:lnTo>
                      <a:lnTo>
                        <a:pt x="196" y="109"/>
                      </a:lnTo>
                      <a:lnTo>
                        <a:pt x="196" y="13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924840" y="3735360"/>
                  <a:ext cx="443520" cy="6480"/>
                </a:xfrm>
                <a:custGeom>
                  <a:avLst/>
                  <a:gdLst/>
                  <a:ahLst/>
                  <a:rect l="l" t="t" r="r" b="b"/>
                  <a:pathLst>
                    <a:path w="1150" h="23">
                      <a:moveTo>
                        <a:pt x="0" y="23"/>
                      </a:moveTo>
                      <a:lnTo>
                        <a:pt x="0" y="23"/>
                      </a:lnTo>
                      <a:lnTo>
                        <a:pt x="1150" y="23"/>
                      </a:lnTo>
                      <a:lnTo>
                        <a:pt x="115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922320" y="373536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12" h="23">
                      <a:moveTo>
                        <a:pt x="0" y="3"/>
                      </a:moveTo>
                      <a:lnTo>
                        <a:pt x="6" y="23"/>
                      </a:lnTo>
                      <a:lnTo>
                        <a:pt x="9" y="2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12" y="21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924840" y="3738600"/>
                  <a:ext cx="443520" cy="71280"/>
                </a:xfrm>
                <a:prstGeom prst="rect">
                  <a:avLst/>
                </a:prstGeom>
                <a:solidFill>
                  <a:srgbClr val="33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924840" y="3738600"/>
                  <a:ext cx="443520" cy="71280"/>
                </a:xfrm>
                <a:prstGeom prst="rect">
                  <a:avLst/>
                </a:prstGeom>
                <a:solidFill>
                  <a:srgbClr val="996633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976320" y="3749760"/>
                  <a:ext cx="340200" cy="48960"/>
                </a:xfrm>
                <a:prstGeom prst="rect">
                  <a:avLst/>
                </a:prstGeom>
                <a:solidFill>
                  <a:srgbClr val="33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976320" y="3795840"/>
                  <a:ext cx="344880" cy="6120"/>
                </a:xfrm>
                <a:custGeom>
                  <a:avLst/>
                  <a:gdLst/>
                  <a:ahLst/>
                  <a:rect l="l" t="t" r="r" b="b"/>
                  <a:pathLst>
                    <a:path w="904" h="23">
                      <a:moveTo>
                        <a:pt x="881" y="11"/>
                      </a:moveTo>
                      <a:lnTo>
                        <a:pt x="892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892" y="23"/>
                      </a:lnTo>
                      <a:lnTo>
                        <a:pt x="904" y="11"/>
                      </a:lnTo>
                      <a:lnTo>
                        <a:pt x="892" y="23"/>
                      </a:lnTo>
                      <a:lnTo>
                        <a:pt x="904" y="23"/>
                      </a:lnTo>
                      <a:lnTo>
                        <a:pt x="904" y="11"/>
                      </a:lnTo>
                      <a:lnTo>
                        <a:pt x="881" y="11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1314720" y="3746520"/>
                  <a:ext cx="6840" cy="5220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1" y="23"/>
                      </a:moveTo>
                      <a:lnTo>
                        <a:pt x="0" y="12"/>
                      </a:lnTo>
                      <a:lnTo>
                        <a:pt x="0" y="212"/>
                      </a:lnTo>
                      <a:lnTo>
                        <a:pt x="23" y="212"/>
                      </a:lnTo>
                      <a:lnTo>
                        <a:pt x="23" y="12"/>
                      </a:lnTo>
                      <a:lnTo>
                        <a:pt x="11" y="0"/>
                      </a:lnTo>
                      <a:lnTo>
                        <a:pt x="23" y="12"/>
                      </a:lnTo>
                      <a:lnTo>
                        <a:pt x="23" y="0"/>
                      </a:lnTo>
                      <a:lnTo>
                        <a:pt x="11" y="0"/>
                      </a:lnTo>
                      <a:lnTo>
                        <a:pt x="11" y="2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971640" y="3746520"/>
                  <a:ext cx="344880" cy="6480"/>
                </a:xfrm>
                <a:custGeom>
                  <a:avLst/>
                  <a:gdLst/>
                  <a:ahLst/>
                  <a:rect l="l" t="t" r="r" b="b"/>
                  <a:pathLst>
                    <a:path w="903" h="23">
                      <a:moveTo>
                        <a:pt x="23" y="12"/>
                      </a:moveTo>
                      <a:lnTo>
                        <a:pt x="11" y="23"/>
                      </a:lnTo>
                      <a:lnTo>
                        <a:pt x="903" y="23"/>
                      </a:lnTo>
                      <a:lnTo>
                        <a:pt x="903" y="0"/>
                      </a:lnTo>
                      <a:lnTo>
                        <a:pt x="11" y="0"/>
                      </a:lnTo>
                      <a:lnTo>
                        <a:pt x="0" y="12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23" y="1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971640" y="3749760"/>
                  <a:ext cx="6840" cy="5220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1" y="189"/>
                      </a:moveTo>
                      <a:lnTo>
                        <a:pt x="23" y="200"/>
                      </a:lnTo>
                      <a:lnTo>
                        <a:pt x="23" y="0"/>
                      </a:lnTo>
                      <a:lnTo>
                        <a:pt x="0" y="0"/>
                      </a:lnTo>
                      <a:lnTo>
                        <a:pt x="0" y="200"/>
                      </a:lnTo>
                      <a:lnTo>
                        <a:pt x="11" y="212"/>
                      </a:lnTo>
                      <a:lnTo>
                        <a:pt x="0" y="200"/>
                      </a:lnTo>
                      <a:lnTo>
                        <a:pt x="0" y="212"/>
                      </a:lnTo>
                      <a:lnTo>
                        <a:pt x="11" y="212"/>
                      </a:lnTo>
                      <a:lnTo>
                        <a:pt x="11" y="189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3" name=""/>
              <p:cNvGrpSpPr/>
              <p:nvPr/>
            </p:nvGrpSpPr>
            <p:grpSpPr>
              <a:xfrm>
                <a:off x="209520" y="3909960"/>
                <a:ext cx="488880" cy="963360"/>
                <a:chOff x="209520" y="3909960"/>
                <a:chExt cx="488880" cy="963360"/>
              </a:xfrm>
            </p:grpSpPr>
            <p:sp>
              <p:nvSpPr>
                <p:cNvPr id="1204" name=""/>
                <p:cNvSpPr/>
                <p:nvPr/>
              </p:nvSpPr>
              <p:spPr>
                <a:xfrm>
                  <a:off x="247680" y="4558680"/>
                  <a:ext cx="34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247680" y="4749480"/>
                  <a:ext cx="34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247680" y="4291560"/>
                  <a:ext cx="34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207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209520" y="4444200"/>
                  <a:ext cx="21924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8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209520" y="4215240"/>
                  <a:ext cx="21924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9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209520" y="4673160"/>
                  <a:ext cx="21924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 flipV="1">
                  <a:off x="591120" y="3909960"/>
                  <a:ext cx="0" cy="839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11" name=""/>
                <p:cNvGrpSpPr/>
                <p:nvPr/>
              </p:nvGrpSpPr>
              <p:grpSpPr>
                <a:xfrm>
                  <a:off x="514800" y="4024440"/>
                  <a:ext cx="183600" cy="158400"/>
                  <a:chOff x="514800" y="4024440"/>
                  <a:chExt cx="183600" cy="158400"/>
                </a:xfrm>
              </p:grpSpPr>
              <p:sp>
                <p:nvSpPr>
                  <p:cNvPr id="1212" name=""/>
                  <p:cNvSpPr/>
                  <p:nvPr/>
                </p:nvSpPr>
                <p:spPr>
                  <a:xfrm>
                    <a:off x="545040" y="4070160"/>
                    <a:ext cx="142560" cy="43920"/>
                  </a:xfrm>
                  <a:prstGeom prst="rect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545040" y="4112640"/>
                    <a:ext cx="14400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903" h="23">
                        <a:moveTo>
                          <a:pt x="880" y="12"/>
                        </a:moveTo>
                        <a:lnTo>
                          <a:pt x="892" y="0"/>
                        </a:lnTo>
                        <a:lnTo>
                          <a:pt x="0" y="0"/>
                        </a:lnTo>
                        <a:lnTo>
                          <a:pt x="0" y="23"/>
                        </a:lnTo>
                        <a:lnTo>
                          <a:pt x="892" y="23"/>
                        </a:lnTo>
                        <a:lnTo>
                          <a:pt x="903" y="12"/>
                        </a:lnTo>
                        <a:lnTo>
                          <a:pt x="892" y="23"/>
                        </a:lnTo>
                        <a:lnTo>
                          <a:pt x="903" y="23"/>
                        </a:lnTo>
                        <a:lnTo>
                          <a:pt x="903" y="12"/>
                        </a:lnTo>
                        <a:lnTo>
                          <a:pt x="880" y="12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685440" y="4067280"/>
                    <a:ext cx="360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12">
                        <a:moveTo>
                          <a:pt x="12" y="23"/>
                        </a:moveTo>
                        <a:lnTo>
                          <a:pt x="0" y="11"/>
                        </a:lnTo>
                        <a:lnTo>
                          <a:pt x="0" y="212"/>
                        </a:lnTo>
                        <a:lnTo>
                          <a:pt x="23" y="212"/>
                        </a:lnTo>
                        <a:lnTo>
                          <a:pt x="23" y="11"/>
                        </a:lnTo>
                        <a:lnTo>
                          <a:pt x="12" y="0"/>
                        </a:lnTo>
                        <a:lnTo>
                          <a:pt x="23" y="11"/>
                        </a:lnTo>
                        <a:lnTo>
                          <a:pt x="23" y="0"/>
                        </a:lnTo>
                        <a:lnTo>
                          <a:pt x="12" y="0"/>
                        </a:lnTo>
                        <a:lnTo>
                          <a:pt x="12" y="23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543960" y="4070160"/>
                    <a:ext cx="360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12">
                        <a:moveTo>
                          <a:pt x="11" y="189"/>
                        </a:moveTo>
                        <a:lnTo>
                          <a:pt x="23" y="201"/>
                        </a:lnTo>
                        <a:lnTo>
                          <a:pt x="23" y="0"/>
                        </a:lnTo>
                        <a:lnTo>
                          <a:pt x="0" y="0"/>
                        </a:lnTo>
                        <a:lnTo>
                          <a:pt x="0" y="201"/>
                        </a:lnTo>
                        <a:lnTo>
                          <a:pt x="11" y="212"/>
                        </a:lnTo>
                        <a:lnTo>
                          <a:pt x="0" y="201"/>
                        </a:lnTo>
                        <a:lnTo>
                          <a:pt x="0" y="212"/>
                        </a:lnTo>
                        <a:lnTo>
                          <a:pt x="11" y="212"/>
                        </a:lnTo>
                        <a:lnTo>
                          <a:pt x="11" y="189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>
                    <a:off x="514800" y="4024440"/>
                    <a:ext cx="18360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53" h="112">
                        <a:moveTo>
                          <a:pt x="0" y="112"/>
                        </a:moveTo>
                        <a:lnTo>
                          <a:pt x="195" y="0"/>
                        </a:lnTo>
                        <a:lnTo>
                          <a:pt x="963" y="0"/>
                        </a:lnTo>
                        <a:lnTo>
                          <a:pt x="1153" y="112"/>
                        </a:lnTo>
                        <a:lnTo>
                          <a:pt x="3" y="112"/>
                        </a:lnTo>
                        <a:lnTo>
                          <a:pt x="0" y="11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936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>
                    <a:off x="514800" y="4052880"/>
                    <a:ext cx="182880" cy="129960"/>
                  </a:xfrm>
                  <a:prstGeom prst="rect">
                    <a:avLst/>
                  </a:prstGeom>
                  <a:solidFill>
                    <a:srgbClr val="ffcc66"/>
                  </a:solidFill>
                  <a:ln w="9360">
                    <a:solidFill>
                      <a:srgbClr val="ffcc66"/>
                    </a:solidFill>
                    <a:miter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525960" y="4115160"/>
                    <a:ext cx="52560" cy="47520"/>
                  </a:xfrm>
                  <a:prstGeom prst="rect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219" name=""/>
              <p:cNvSpPr/>
              <p:nvPr/>
            </p:nvSpPr>
            <p:spPr>
              <a:xfrm>
                <a:off x="544680" y="4192560"/>
                <a:ext cx="570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900" spc="-1" strike="noStrike">
                    <a:solidFill>
                      <a:srgbClr val="000000"/>
                    </a:solidFill>
                    <a:latin typeface="Rockwell MT"/>
                  </a:rPr>
                  <a:t>Rout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0" name=""/>
            <p:cNvSpPr/>
            <p:nvPr/>
          </p:nvSpPr>
          <p:spPr>
            <a:xfrm flipH="1">
              <a:off x="399960" y="37800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V="1">
              <a:off x="590400" y="37796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66440" y="3805200"/>
              <a:ext cx="610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Rockwell MT"/>
                </a:rPr>
                <a:t>Mode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868320" y="4716360"/>
              <a:ext cx="6667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.323 SI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24" name="" descr=""/>
            <p:cNvPicPr/>
            <p:nvPr/>
          </p:nvPicPr>
          <p:blipFill>
            <a:blip r:embed="rId12"/>
            <a:stretch/>
          </p:blipFill>
          <p:spPr>
            <a:xfrm flipH="1">
              <a:off x="728280" y="4394160"/>
              <a:ext cx="857160" cy="2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>
              <a:off x="1189080" y="4041720"/>
              <a:ext cx="0" cy="31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447920" y="396252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Unicode MS"/>
                </a:rPr>
                <a:t>DSL / Kabel 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7" name=""/>
          <p:cNvGrpSpPr/>
          <p:nvPr/>
        </p:nvGrpSpPr>
        <p:grpSpPr>
          <a:xfrm>
            <a:off x="8075880" y="4343400"/>
            <a:ext cx="642600" cy="1379880"/>
            <a:chOff x="8075880" y="4343400"/>
            <a:chExt cx="642600" cy="1379880"/>
          </a:xfrm>
        </p:grpSpPr>
        <p:pic>
          <p:nvPicPr>
            <p:cNvPr id="1228" name="" descr=""/>
            <p:cNvPicPr/>
            <p:nvPr/>
          </p:nvPicPr>
          <p:blipFill>
            <a:blip r:embed="rId13"/>
            <a:stretch/>
          </p:blipFill>
          <p:spPr>
            <a:xfrm>
              <a:off x="8153280" y="4724280"/>
              <a:ext cx="31428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9" name=""/>
            <p:cNvSpPr/>
            <p:nvPr/>
          </p:nvSpPr>
          <p:spPr>
            <a:xfrm>
              <a:off x="8075880" y="4343400"/>
              <a:ext cx="642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-Mail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H="1">
              <a:off x="8317080" y="5125680"/>
              <a:ext cx="4320" cy="597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1" name=""/>
          <p:cNvGrpSpPr/>
          <p:nvPr/>
        </p:nvGrpSpPr>
        <p:grpSpPr>
          <a:xfrm>
            <a:off x="1828800" y="2743200"/>
            <a:ext cx="5181480" cy="2133720"/>
            <a:chOff x="1828800" y="2743200"/>
            <a:chExt cx="5181480" cy="2133720"/>
          </a:xfrm>
        </p:grpSpPr>
        <p:sp>
          <p:nvSpPr>
            <p:cNvPr id="1232" name=""/>
            <p:cNvSpPr/>
            <p:nvPr/>
          </p:nvSpPr>
          <p:spPr>
            <a:xfrm>
              <a:off x="1828800" y="2819520"/>
              <a:ext cx="0" cy="19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200400" y="2819520"/>
              <a:ext cx="0" cy="19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010280" y="2743200"/>
              <a:ext cx="0" cy="213372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962520" y="2819520"/>
              <a:ext cx="0" cy="19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E38D-6815-4428-891D-A337E1CDD6E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B4C83F-359B-417D-8C25-9B0407A5ABF2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Entgegennahme und Umsetzung der Anord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Jederzeitige Erreichbarkeit für Benachrichtigung, das Anordnung vorlieg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Innerhalb der Geschäftszeiten unverzügliche Entgegennahme der Anordnung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außerhalb der Geschäftszeiten Entgegennahme spätestens nach sechs Stu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Unverzügliche technische Umsetzung einer Anordnu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9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5064-E2D0-401D-ABCE-D75A71BAACA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3B7DE2-AC75-4D33-8696-611BABB52D1E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Abweichungen für TK-Anlagen bis 10.000 Teilneh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Umsetzung bis 24 h nach der Benachrichtig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mittlung der Kopie mit Zeitversatz (Pufferung) o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gabe der Kopie am Ort der TK-Anl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4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2103-876A-4E05-8FD4-D2A7BCF957A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DDB781-9AA1-4305-A199-A6E1C3CA4C3B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Schutzanforderu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8001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6180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ie Übermittlung ist zu schützen geg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mittlung an nichtberechtigte Anschlüs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Unbefugte Belegung der Anschlüsse der Berechtigten 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Unbefugte Kenntnisnahme durch Drit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9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1" name=""/>
          <p:cNvSpPr/>
          <p:nvPr/>
        </p:nvSpPr>
        <p:spPr>
          <a:xfrm>
            <a:off x="609480" y="1600200"/>
            <a:ext cx="788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Bedieneinrichtungen sind gegen unbefugte Nutzung zu schüt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7D9F-2F61-4EB9-B5C0-4AA4FF41A4A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96DCF4-8479-4DD1-96E4-57064D78C12E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otokollier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Jede Nutzung der Überwachungsfunktionen ist zu protokolli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as Personal, dass Überwachungsmaßnahmen einrichtet darf keinen Zugriff auf die Protokolle, insbesondere auf die entsprechenden Löschfunktionen, hab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ie Vergabe von Berechtigungen und die Löschfunktion ist zu protokolli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5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3623-F423-4ED9-B973-85488CD10FF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01DF46-178A-4B61-8B82-7E72CD355668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üfung der Protoko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Vollständige Prüfung durch Personal des Betreibers mindestens vierteljährl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Die RegTP erhält einen Bericht über die Prüf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Stichprobenweise oder anlassbezogene Prüfung durch die Reg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Möglichkeit der Prüfung durch den Bf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0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8786-6FB9-434A-B74D-22190928F50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FAD0A4-424A-480F-A9AF-64ACD6615B00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Rollenverteilung beim Betrei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4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6" name=""/>
          <p:cNvGrpSpPr/>
          <p:nvPr/>
        </p:nvGrpSpPr>
        <p:grpSpPr>
          <a:xfrm>
            <a:off x="1903320" y="1371600"/>
            <a:ext cx="7011720" cy="3139920"/>
            <a:chOff x="1903320" y="1371600"/>
            <a:chExt cx="7011720" cy="3139920"/>
          </a:xfrm>
        </p:grpSpPr>
        <p:grpSp>
          <p:nvGrpSpPr>
            <p:cNvPr id="1267" name=""/>
            <p:cNvGrpSpPr/>
            <p:nvPr/>
          </p:nvGrpSpPr>
          <p:grpSpPr>
            <a:xfrm>
              <a:off x="6148440" y="1371600"/>
              <a:ext cx="2482200" cy="2089080"/>
              <a:chOff x="6148440" y="1371600"/>
              <a:chExt cx="2482200" cy="2089080"/>
            </a:xfrm>
          </p:grpSpPr>
          <p:sp>
            <p:nvSpPr>
              <p:cNvPr id="1268" name=""/>
              <p:cNvSpPr/>
              <p:nvPr/>
            </p:nvSpPr>
            <p:spPr>
              <a:xfrm>
                <a:off x="6228720" y="1371600"/>
                <a:ext cx="115560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Operat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(LI user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6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148440" y="1787400"/>
                <a:ext cx="1334520" cy="120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0" name=""/>
              <p:cNvSpPr/>
              <p:nvPr/>
            </p:nvSpPr>
            <p:spPr>
              <a:xfrm>
                <a:off x="6246360" y="2819520"/>
                <a:ext cx="2384280" cy="6411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190440" indent="-19044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inrichten von Ü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90440" indent="-19044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ufheben von Ü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1" name=""/>
            <p:cNvSpPr/>
            <p:nvPr/>
          </p:nvSpPr>
          <p:spPr>
            <a:xfrm>
              <a:off x="3504960" y="1905120"/>
              <a:ext cx="2742840" cy="68580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2" name=""/>
            <p:cNvGrpSpPr/>
            <p:nvPr/>
          </p:nvGrpSpPr>
          <p:grpSpPr>
            <a:xfrm>
              <a:off x="1903320" y="1371600"/>
              <a:ext cx="1686240" cy="865080"/>
              <a:chOff x="1903320" y="1371600"/>
              <a:chExt cx="1686240" cy="865080"/>
            </a:xfrm>
          </p:grpSpPr>
          <p:sp>
            <p:nvSpPr>
              <p:cNvPr id="1273" name=""/>
              <p:cNvSpPr/>
              <p:nvPr/>
            </p:nvSpPr>
            <p:spPr>
              <a:xfrm>
                <a:off x="2859120" y="1576440"/>
                <a:ext cx="183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4" name=""/>
              <p:cNvGrpSpPr/>
              <p:nvPr/>
            </p:nvGrpSpPr>
            <p:grpSpPr>
              <a:xfrm>
                <a:off x="1903320" y="1371600"/>
                <a:ext cx="1686240" cy="865080"/>
                <a:chOff x="1903320" y="1371600"/>
                <a:chExt cx="1686240" cy="865080"/>
              </a:xfrm>
            </p:grpSpPr>
            <p:pic>
              <p:nvPicPr>
                <p:cNvPr id="127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293920" y="1371600"/>
                  <a:ext cx="1208160" cy="865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1903320" y="1560240"/>
                  <a:ext cx="168624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nordnunge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77" name=""/>
            <p:cNvSpPr/>
            <p:nvPr/>
          </p:nvSpPr>
          <p:spPr>
            <a:xfrm>
              <a:off x="5410080" y="3657600"/>
              <a:ext cx="3504960" cy="838080"/>
            </a:xfrm>
            <a:prstGeom prst="ellipse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095880" y="3733920"/>
              <a:ext cx="224604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stem-Datenbank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ilnehmer-Prof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248160" y="2743200"/>
              <a:ext cx="0" cy="99072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0" name=""/>
          <p:cNvGrpSpPr/>
          <p:nvPr/>
        </p:nvGrpSpPr>
        <p:grpSpPr>
          <a:xfrm>
            <a:off x="151920" y="1980720"/>
            <a:ext cx="5791680" cy="4029480"/>
            <a:chOff x="151920" y="1980720"/>
            <a:chExt cx="5791680" cy="4029480"/>
          </a:xfrm>
        </p:grpSpPr>
        <p:sp>
          <p:nvSpPr>
            <p:cNvPr id="1281" name=""/>
            <p:cNvSpPr/>
            <p:nvPr/>
          </p:nvSpPr>
          <p:spPr>
            <a:xfrm flipH="1">
              <a:off x="1752480" y="3048120"/>
              <a:ext cx="1487520" cy="68580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895480" y="2743200"/>
              <a:ext cx="1920960" cy="7812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tokolldate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icht löschbar durch Oper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4648320" y="2819520"/>
              <a:ext cx="1295280" cy="7596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757520" y="3962520"/>
              <a:ext cx="3200400" cy="1738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Prüfung der Protokol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Bericht an die RegT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Löschen der Protokolle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Vergabe von Berechtigungen für Oper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5" name=""/>
            <p:cNvGrpSpPr/>
            <p:nvPr/>
          </p:nvGrpSpPr>
          <p:grpSpPr>
            <a:xfrm>
              <a:off x="151920" y="3581280"/>
              <a:ext cx="1676880" cy="1874880"/>
              <a:chOff x="151920" y="3581280"/>
              <a:chExt cx="1676880" cy="1874880"/>
            </a:xfrm>
          </p:grpSpPr>
          <p:pic>
            <p:nvPicPr>
              <p:cNvPr id="128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70440" y="3809880"/>
                <a:ext cx="1458360" cy="164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>
                <a:off x="151920" y="3581280"/>
                <a:ext cx="16009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Administrat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(LI superuser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8" name=""/>
            <p:cNvSpPr/>
            <p:nvPr/>
          </p:nvSpPr>
          <p:spPr>
            <a:xfrm flipV="1">
              <a:off x="1447920" y="1980720"/>
              <a:ext cx="838080" cy="167652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57200" y="5410080"/>
              <a:ext cx="1922400" cy="6001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Logdatei Admin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nicht löschb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13EC-A562-42C3-9B88-B32CE84C5DF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A436CF-DFDB-4C1C-A6ED-1EC4BCF1E18E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7148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Aufgaben der RegTP nach § 88 TKG und TKÜ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Genehmigung und Abnahme der Überwachungstechnik der Betrei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üfung der Rahmenkonzepte der Herste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Erarbeitung der Technischen Richtli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prüfung der Einsatzprotoko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Statistik der Anordnungen im StPO-Bere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Bestätigen von Testmaßnah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3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BE74-88C0-42E2-99DE-5C310D56305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640260-A899-478E-B390-669C1646646A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blick über die Vorschrift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2895480" y="2209680"/>
            <a:ext cx="2057400" cy="5205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Unicode MS"/>
              </a:rPr>
              <a:t>TR TK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2209680"/>
            <a:ext cx="2133360" cy="520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Unicode MS"/>
              </a:rPr>
              <a:t>ETSI, 3GP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895480" y="2819520"/>
            <a:ext cx="5257800" cy="2349360"/>
            <a:chOff x="2895480" y="2819520"/>
            <a:chExt cx="5257800" cy="2349360"/>
          </a:xfrm>
        </p:grpSpPr>
        <p:sp>
          <p:nvSpPr>
            <p:cNvPr id="60" name=""/>
            <p:cNvSpPr/>
            <p:nvPr/>
          </p:nvSpPr>
          <p:spPr>
            <a:xfrm>
              <a:off x="2895480" y="4648320"/>
              <a:ext cx="381024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Art 10 G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3429000"/>
              <a:ext cx="2895840" cy="5205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 Unicode MS"/>
                </a:rPr>
                <a:t>§ 88 TK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895480" y="4038480"/>
              <a:ext cx="335304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G 10, StPO, AW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95480" y="2819520"/>
              <a:ext cx="2438640" cy="5205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 Unicode MS"/>
                </a:rPr>
                <a:t>TKÜ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858000" y="4038480"/>
              <a:ext cx="129528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ZSE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5638680" y="1447920"/>
            <a:ext cx="3048120" cy="177732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TR TKÜ Ausgabe 3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 Unicode MS"/>
              </a:rPr>
              <a:t>Entwurf der TR TKÜ Ausgabe 4.0 voraussichtliches Inkrafttreten 1. Q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57200" y="1828800"/>
            <a:ext cx="6705720" cy="3460680"/>
            <a:chOff x="457200" y="1828800"/>
            <a:chExt cx="6705720" cy="3460680"/>
          </a:xfrm>
        </p:grpSpPr>
        <p:sp>
          <p:nvSpPr>
            <p:cNvPr id="67" name=""/>
            <p:cNvSpPr/>
            <p:nvPr/>
          </p:nvSpPr>
          <p:spPr>
            <a:xfrm>
              <a:off x="457200" y="1828800"/>
              <a:ext cx="6705720" cy="946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TC LI</a:t>
              </a:r>
              <a:r>
                <a:rPr b="1" lang="de-DE" sz="14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Grundsatzangelegenheiten (Handover-Interfac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Festnetz, Paketvermittelte Kommunikation, E-Mail (GPRS) 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(ES 201 67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" y="2742840"/>
              <a:ext cx="6705720" cy="946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(3GPP)  SA3  LI 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(Third Generation Partnership Projec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Standards im Bereich GSM (TS 03.33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UMTS (TS 33.108) = GPRS + (IM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7200" y="4343040"/>
              <a:ext cx="6705720" cy="946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36680"/>
                  <a:tab algn="l" pos="2673360"/>
                  <a:tab algn="l" pos="4010040"/>
                  <a:tab algn="l" pos="5346720"/>
                  <a:tab algn="l" pos="6683400"/>
                  <a:tab algn="l" pos="8020080"/>
                  <a:tab algn="l" pos="9356760"/>
                  <a:tab algn="l" pos="1069344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TIPHON 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(Telecommunications and Internet Protocol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	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	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Harmonisation over Network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36680"/>
                  <a:tab algn="l" pos="2673360"/>
                  <a:tab algn="l" pos="4010040"/>
                  <a:tab algn="l" pos="5346720"/>
                  <a:tab algn="l" pos="6683400"/>
                  <a:tab algn="l" pos="8020080"/>
                  <a:tab algn="l" pos="9356760"/>
                  <a:tab algn="l" pos="1069344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Standards im Bereich Voice over 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3657240"/>
              <a:ext cx="6705720" cy="7030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AT-D 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(Access and Terminals - Digital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Standards Kabelnetze (Telefonie, Internetzugang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C300-FB31-4344-BCB5-F7CBC988153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CB6370-AC8B-47B5-AF17-6119D6824B54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Standardisierung Lawful Interce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685800" y="1447920"/>
            <a:ext cx="7696080" cy="1189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TC 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Grundsatzangelegenheiten (Handover-Interfa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ES 201 67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Festnetz, Paketvermittelte Kommunikation, E-Mail (GP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2743200"/>
            <a:ext cx="7696080" cy="946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(3GPP)  SA3  LI 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(Third Generation Partnership Projec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Standards im Bereich GSM (TS 03.33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UMTS (TS 33.108) = GPRS + (IM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4648320"/>
            <a:ext cx="7696080" cy="946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36680"/>
                <a:tab algn="l" pos="2673360"/>
                <a:tab algn="l" pos="4010040"/>
                <a:tab algn="l" pos="5346720"/>
                <a:tab algn="l" pos="6683400"/>
                <a:tab algn="l" pos="8020080"/>
                <a:tab algn="l" pos="9356760"/>
                <a:tab algn="l" pos="1069344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TIPHON 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(Telecommunications and Internet Protocol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Harmonisation over Network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6680"/>
                <a:tab algn="l" pos="2673360"/>
                <a:tab algn="l" pos="4010040"/>
                <a:tab algn="l" pos="5346720"/>
                <a:tab algn="l" pos="6683400"/>
                <a:tab algn="l" pos="8020080"/>
                <a:tab algn="l" pos="9356760"/>
                <a:tab algn="l" pos="1069344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Standards im Bereich Voice over 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3809880"/>
            <a:ext cx="7696080" cy="703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AT-D 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(Access and Terminals - Digit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Standards Kabelnetze (Telefonie, Internetzuga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BB67-5DE8-4C1A-BD46-6C8C796835C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456BDA-B840-4BFB-B827-AB976900C8EE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ETSI-Prinz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85800" y="1447920"/>
            <a:ext cx="5715000" cy="4483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715000" y="3124080"/>
            <a:ext cx="3276720" cy="16311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s sind grundsätz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ystemintegrierte u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xterne Lösungen mög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2133720"/>
            <a:ext cx="2286000" cy="94716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Kein HI1 in Deutsch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29000" y="3048120"/>
            <a:ext cx="1905120" cy="1447560"/>
          </a:xfrm>
          <a:prstGeom prst="rect">
            <a:avLst/>
          </a:prstGeom>
          <a:noFill/>
          <a:ln w="7632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E509-B1FB-4459-B325-EFD7286A202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C7D6A1-309A-49FA-9977-00C295DCA551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Regelungsbereich der Technischen Richtli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cc00"/>
                </a:solidFill>
                <a:latin typeface="Arial Unicode MS"/>
              </a:rPr>
              <a:t>Telefonnetz (ISDN, PSTN und GS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cc00"/>
                </a:solidFill>
                <a:latin typeface="Arial Unicode MS"/>
              </a:rPr>
              <a:t>Speichereinrichtung: Sprache und F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GPRS, UM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Schutzmaßnahmen IPSec</a:t>
            </a:r>
            <a:br>
              <a:rPr sz="2800"/>
            </a:b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(2. Herstellerbefragung wird gestart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Speichereinrichtung: E-Ma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Arial Unicode MS"/>
              </a:rPr>
              <a:t>Internet Zugänge: DSL, WLL, Kabel, IMS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1066680" y="563868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usgabe</a:t>
            </a:r>
            <a:r>
              <a:rPr b="0" lang="en-US" sz="2000" spc="-1" strike="noStrike">
                <a:solidFill>
                  <a:srgbClr val="00cc00"/>
                </a:solidFill>
                <a:latin typeface="Arial Unicode MS"/>
              </a:rPr>
              <a:t> 3.1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2000" spc="-1" strike="noStrike">
                <a:solidFill>
                  <a:srgbClr val="ff9900"/>
                </a:solidFill>
                <a:latin typeface="Arial Unicode MS"/>
              </a:rPr>
              <a:t>Entwurf 4.0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2000" spc="-1" strike="noStrike">
                <a:solidFill>
                  <a:srgbClr val="ff3300"/>
                </a:solidFill>
                <a:latin typeface="Arial Unicode MS"/>
              </a:rPr>
              <a:t>(künftiger Entwurf 5.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C7DC-B308-4B54-9BA8-E737F593196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141DE2-55F1-48C6-A504-AD4673EEE90B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Ü im leitungsvermittelten Bere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80880" y="2971800"/>
            <a:ext cx="3721320" cy="3035160"/>
            <a:chOff x="380880" y="2971800"/>
            <a:chExt cx="3721320" cy="3035160"/>
          </a:xfrm>
        </p:grpSpPr>
        <p:sp>
          <p:nvSpPr>
            <p:cNvPr id="98" name=""/>
            <p:cNvSpPr/>
            <p:nvPr/>
          </p:nvSpPr>
          <p:spPr>
            <a:xfrm>
              <a:off x="380880" y="4191120"/>
              <a:ext cx="1752840" cy="1066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utzinformationen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ISDN-Verbindung m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U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I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LP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1905120" y="4038480"/>
              <a:ext cx="2197080" cy="673200"/>
              <a:chOff x="1905120" y="4038480"/>
              <a:chExt cx="2197080" cy="67320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1905120" y="4038480"/>
                <a:ext cx="2197080" cy="673200"/>
                <a:chOff x="1905120" y="4038480"/>
                <a:chExt cx="2197080" cy="673200"/>
              </a:xfrm>
            </p:grpSpPr>
            <p:grpSp>
              <p:nvGrpSpPr>
                <p:cNvPr id="101" name=""/>
                <p:cNvGrpSpPr/>
                <p:nvPr/>
              </p:nvGrpSpPr>
              <p:grpSpPr>
                <a:xfrm>
                  <a:off x="3197160" y="4102200"/>
                  <a:ext cx="905040" cy="577800"/>
                  <a:chOff x="3197160" y="4102200"/>
                  <a:chExt cx="905040" cy="577800"/>
                </a:xfrm>
              </p:grpSpPr>
              <p:grpSp>
                <p:nvGrpSpPr>
                  <p:cNvPr id="102" name=""/>
                  <p:cNvGrpSpPr/>
                  <p:nvPr/>
                </p:nvGrpSpPr>
                <p:grpSpPr>
                  <a:xfrm>
                    <a:off x="3548160" y="4102200"/>
                    <a:ext cx="554040" cy="461880"/>
                    <a:chOff x="3548160" y="4102200"/>
                    <a:chExt cx="554040" cy="461880"/>
                  </a:xfrm>
                </p:grpSpPr>
                <p:grpSp>
                  <p:nvGrpSpPr>
                    <p:cNvPr id="103" name=""/>
                    <p:cNvGrpSpPr/>
                    <p:nvPr/>
                  </p:nvGrpSpPr>
                  <p:grpSpPr>
                    <a:xfrm>
                      <a:off x="3692520" y="4162320"/>
                      <a:ext cx="409680" cy="339840"/>
                      <a:chOff x="3692520" y="4162320"/>
                      <a:chExt cx="409680" cy="339840"/>
                    </a:xfrm>
                  </p:grpSpPr>
                  <p:grpSp>
                    <p:nvGrpSpPr>
                      <p:cNvPr id="104" name=""/>
                      <p:cNvGrpSpPr/>
                      <p:nvPr/>
                    </p:nvGrpSpPr>
                    <p:grpSpPr>
                      <a:xfrm>
                        <a:off x="3692520" y="4162320"/>
                        <a:ext cx="409680" cy="339840"/>
                        <a:chOff x="3692520" y="4162320"/>
                        <a:chExt cx="409680" cy="339840"/>
                      </a:xfrm>
                    </p:grpSpPr>
                    <p:grpSp>
                      <p:nvGrpSpPr>
                        <p:cNvPr id="105" name=""/>
                        <p:cNvGrpSpPr/>
                        <p:nvPr/>
                      </p:nvGrpSpPr>
                      <p:grpSpPr>
                        <a:xfrm>
                          <a:off x="3800520" y="4184640"/>
                          <a:ext cx="301680" cy="276120"/>
                          <a:chOff x="3800520" y="4184640"/>
                          <a:chExt cx="301680" cy="276120"/>
                        </a:xfrm>
                      </p:grpSpPr>
                      <p:grpSp>
                        <p:nvGrpSpPr>
                          <p:cNvPr id="106" name=""/>
                          <p:cNvGrpSpPr/>
                          <p:nvPr/>
                        </p:nvGrpSpPr>
                        <p:grpSpPr>
                          <a:xfrm>
                            <a:off x="3833640" y="4184640"/>
                            <a:ext cx="268560" cy="276120"/>
                            <a:chOff x="3833640" y="4184640"/>
                            <a:chExt cx="268560" cy="276120"/>
                          </a:xfrm>
                        </p:grpSpPr>
                        <p:sp>
                          <p:nvSpPr>
                            <p:cNvPr id="107" name=""/>
                            <p:cNvSpPr/>
                            <p:nvPr/>
                          </p:nvSpPr>
                          <p:spPr>
                            <a:xfrm>
                              <a:off x="3979800" y="4352760"/>
                              <a:ext cx="122400" cy="6516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" bIns="-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8" name=""/>
                            <p:cNvSpPr/>
                            <p:nvPr/>
                          </p:nvSpPr>
                          <p:spPr>
                            <a:xfrm>
                              <a:off x="3870360" y="4371840"/>
                              <a:ext cx="158760" cy="8892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9" name=""/>
                            <p:cNvSpPr/>
                            <p:nvPr/>
                          </p:nvSpPr>
                          <p:spPr>
                            <a:xfrm>
                              <a:off x="3941640" y="4246560"/>
                              <a:ext cx="122400" cy="6840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0" name=""/>
                            <p:cNvSpPr/>
                            <p:nvPr/>
                          </p:nvSpPr>
                          <p:spPr>
                            <a:xfrm>
                              <a:off x="3833640" y="4184640"/>
                              <a:ext cx="157320" cy="8748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5480" bIns="15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1" name=""/>
                            <p:cNvSpPr/>
                            <p:nvPr/>
                          </p:nvSpPr>
                          <p:spPr>
                            <a:xfrm>
                              <a:off x="3944880" y="4245120"/>
                              <a:ext cx="108000" cy="16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33cc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12" name=""/>
                          <p:cNvSpPr/>
                          <p:nvPr/>
                        </p:nvSpPr>
                        <p:spPr>
                          <a:xfrm>
                            <a:off x="3800520" y="4268880"/>
                            <a:ext cx="230040" cy="12852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3" name=""/>
                          <p:cNvSpPr/>
                          <p:nvPr/>
                        </p:nvSpPr>
                        <p:spPr>
                          <a:xfrm>
                            <a:off x="3800520" y="4352760"/>
                            <a:ext cx="155520" cy="8748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4" name=""/>
                          <p:cNvSpPr/>
                          <p:nvPr/>
                        </p:nvSpPr>
                        <p:spPr>
                          <a:xfrm>
                            <a:off x="3851280" y="4226040"/>
                            <a:ext cx="11412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33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15" name=""/>
                        <p:cNvSpPr/>
                        <p:nvPr/>
                      </p:nvSpPr>
                      <p:spPr>
                        <a:xfrm>
                          <a:off x="3800520" y="4435560"/>
                          <a:ext cx="120600" cy="6660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6" name=""/>
                        <p:cNvSpPr/>
                        <p:nvPr/>
                      </p:nvSpPr>
                      <p:spPr>
                        <a:xfrm>
                          <a:off x="3692520" y="4162320"/>
                          <a:ext cx="157320" cy="889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7" name=""/>
                        <p:cNvSpPr/>
                        <p:nvPr/>
                      </p:nvSpPr>
                      <p:spPr>
                        <a:xfrm>
                          <a:off x="3840120" y="4413240"/>
                          <a:ext cx="795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18" name=""/>
                      <p:cNvSpPr/>
                      <p:nvPr/>
                    </p:nvSpPr>
                    <p:spPr>
                      <a:xfrm>
                        <a:off x="3824280" y="4206960"/>
                        <a:ext cx="4428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9" name=""/>
                    <p:cNvGrpSpPr/>
                    <p:nvPr/>
                  </p:nvGrpSpPr>
                  <p:grpSpPr>
                    <a:xfrm>
                      <a:off x="3548160" y="4102200"/>
                      <a:ext cx="372960" cy="420480"/>
                      <a:chOff x="3548160" y="4102200"/>
                      <a:chExt cx="372960" cy="420480"/>
                    </a:xfrm>
                  </p:grpSpPr>
                  <p:sp>
                    <p:nvSpPr>
                      <p:cNvPr id="120" name=""/>
                      <p:cNvSpPr/>
                      <p:nvPr/>
                    </p:nvSpPr>
                    <p:spPr>
                      <a:xfrm>
                        <a:off x="3583080" y="4352760"/>
                        <a:ext cx="301680" cy="1699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" name=""/>
                      <p:cNvSpPr/>
                      <p:nvPr/>
                    </p:nvSpPr>
                    <p:spPr>
                      <a:xfrm>
                        <a:off x="3616200" y="4226040"/>
                        <a:ext cx="304920" cy="17136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" name=""/>
                      <p:cNvSpPr/>
                      <p:nvPr/>
                    </p:nvSpPr>
                    <p:spPr>
                      <a:xfrm>
                        <a:off x="3548160" y="4102200"/>
                        <a:ext cx="228600" cy="12996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" name=""/>
                      <p:cNvSpPr/>
                      <p:nvPr/>
                    </p:nvSpPr>
                    <p:spPr>
                      <a:xfrm>
                        <a:off x="3692520" y="4184640"/>
                        <a:ext cx="120600" cy="666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" name=""/>
                      <p:cNvSpPr/>
                      <p:nvPr/>
                    </p:nvSpPr>
                    <p:spPr>
                      <a:xfrm>
                        <a:off x="3621240" y="4167000"/>
                        <a:ext cx="20160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" name=""/>
                      <p:cNvSpPr/>
                      <p:nvPr/>
                    </p:nvSpPr>
                    <p:spPr>
                      <a:xfrm>
                        <a:off x="3718080" y="4383000"/>
                        <a:ext cx="131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3548160" y="4476600"/>
                      <a:ext cx="160200" cy="874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3659040" y="4464000"/>
                      <a:ext cx="8280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8" name=""/>
                  <p:cNvSpPr/>
                  <p:nvPr/>
                </p:nvSpPr>
                <p:spPr>
                  <a:xfrm>
                    <a:off x="3197160" y="4572000"/>
                    <a:ext cx="192240" cy="10800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3365640" y="4572000"/>
                    <a:ext cx="161640" cy="874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3465360" y="4538520"/>
                    <a:ext cx="157320" cy="874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3321000" y="4518000"/>
                    <a:ext cx="33804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2" name=""/>
                <p:cNvGrpSpPr/>
                <p:nvPr/>
              </p:nvGrpSpPr>
              <p:grpSpPr>
                <a:xfrm>
                  <a:off x="1905120" y="4105440"/>
                  <a:ext cx="539640" cy="398160"/>
                  <a:chOff x="1905120" y="4105440"/>
                  <a:chExt cx="539640" cy="398160"/>
                </a:xfrm>
              </p:grpSpPr>
              <p:grpSp>
                <p:nvGrpSpPr>
                  <p:cNvPr id="133" name=""/>
                  <p:cNvGrpSpPr/>
                  <p:nvPr/>
                </p:nvGrpSpPr>
                <p:grpSpPr>
                  <a:xfrm>
                    <a:off x="1905120" y="4162320"/>
                    <a:ext cx="287280" cy="235080"/>
                    <a:chOff x="1905120" y="4162320"/>
                    <a:chExt cx="287280" cy="235080"/>
                  </a:xfrm>
                </p:grpSpPr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905120" y="4246560"/>
                      <a:ext cx="117360" cy="684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928880" y="4309920"/>
                      <a:ext cx="158760" cy="874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1962000" y="4162320"/>
                      <a:ext cx="230400" cy="1303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1944720" y="4253040"/>
                      <a:ext cx="8244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8" name=""/>
                  <p:cNvGrpSpPr/>
                  <p:nvPr/>
                </p:nvGrpSpPr>
                <p:grpSpPr>
                  <a:xfrm>
                    <a:off x="2000160" y="4105440"/>
                    <a:ext cx="444600" cy="398160"/>
                    <a:chOff x="2000160" y="4105440"/>
                    <a:chExt cx="444600" cy="398160"/>
                  </a:xfrm>
                </p:grpSpPr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2143080" y="4122720"/>
                      <a:ext cx="301680" cy="1699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2000160" y="4246560"/>
                      <a:ext cx="160560" cy="874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2035080" y="4309920"/>
                      <a:ext cx="233280" cy="1303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2109600" y="4371840"/>
                      <a:ext cx="223920" cy="13176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2124000" y="4208400"/>
                      <a:ext cx="206280" cy="11124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2306520" y="4105440"/>
                      <a:ext cx="119160" cy="648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2189160" y="4181400"/>
                      <a:ext cx="14616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2044800" y="4289400"/>
                      <a:ext cx="16668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7" name=""/>
                  <p:cNvSpPr/>
                  <p:nvPr/>
                </p:nvSpPr>
                <p:spPr>
                  <a:xfrm>
                    <a:off x="2292480" y="4145040"/>
                    <a:ext cx="8892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2178000" y="4038480"/>
                  <a:ext cx="1598760" cy="673200"/>
                  <a:chOff x="2178000" y="4038480"/>
                  <a:chExt cx="1598760" cy="67320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>
                    <a:off x="2679840" y="4060800"/>
                    <a:ext cx="377640" cy="2113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3006720" y="4038480"/>
                    <a:ext cx="301680" cy="1699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3294000" y="4226040"/>
                    <a:ext cx="482760" cy="2775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2357280" y="4352760"/>
                    <a:ext cx="555840" cy="3175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3152880" y="4392720"/>
                    <a:ext cx="407880" cy="2332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2214720" y="4416480"/>
                    <a:ext cx="299880" cy="1699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2178000" y="4268880"/>
                    <a:ext cx="301680" cy="1699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2322360" y="4102200"/>
                    <a:ext cx="482760" cy="2746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2755800" y="4435560"/>
                    <a:ext cx="482760" cy="2761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3365640" y="4122720"/>
                    <a:ext cx="376200" cy="2113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3259080" y="4038480"/>
                    <a:ext cx="339840" cy="1922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2305080" y="4089240"/>
                    <a:ext cx="138420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1" name=""/>
              <p:cNvSpPr/>
              <p:nvPr/>
            </p:nvSpPr>
            <p:spPr>
              <a:xfrm>
                <a:off x="2447280" y="4307040"/>
                <a:ext cx="545760" cy="27144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1600200" y="5029200"/>
              <a:ext cx="2425680" cy="977760"/>
            </a:xfrm>
            <a:prstGeom prst="rect">
              <a:avLst/>
            </a:prstGeom>
            <a:solidFill>
              <a:srgbClr val="ff66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BTr-Gerä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Nutzinformation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(C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743200" y="2971800"/>
              <a:ext cx="152280" cy="2057400"/>
              <a:chOff x="2743200" y="2971800"/>
              <a:chExt cx="152280" cy="2057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743200" y="2971800"/>
                <a:ext cx="0" cy="2057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sysDot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895480" y="2971800"/>
                <a:ext cx="0" cy="2057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sysDot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6" name=""/>
          <p:cNvGrpSpPr/>
          <p:nvPr/>
        </p:nvGrpSpPr>
        <p:grpSpPr>
          <a:xfrm>
            <a:off x="3429000" y="3581280"/>
            <a:ext cx="4419720" cy="2432160"/>
            <a:chOff x="3429000" y="3581280"/>
            <a:chExt cx="4419720" cy="2432160"/>
          </a:xfrm>
        </p:grpSpPr>
        <p:grpSp>
          <p:nvGrpSpPr>
            <p:cNvPr id="167" name=""/>
            <p:cNvGrpSpPr/>
            <p:nvPr/>
          </p:nvGrpSpPr>
          <p:grpSpPr>
            <a:xfrm>
              <a:off x="4267080" y="3886200"/>
              <a:ext cx="3581640" cy="2127240"/>
              <a:chOff x="4267080" y="3886200"/>
              <a:chExt cx="3581640" cy="2127240"/>
            </a:xfrm>
          </p:grpSpPr>
          <p:sp>
            <p:nvSpPr>
              <p:cNvPr id="168" name=""/>
              <p:cNvSpPr/>
              <p:nvPr/>
            </p:nvSpPr>
            <p:spPr>
              <a:xfrm>
                <a:off x="4267080" y="5029200"/>
                <a:ext cx="2044800" cy="984240"/>
              </a:xfrm>
              <a:prstGeom prst="rect">
                <a:avLst/>
              </a:prstGeom>
              <a:solidFill>
                <a:srgbClr val="ff66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BTr-Gerä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Ereignisdate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(IRI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4267080" y="3886200"/>
                <a:ext cx="1587240" cy="976320"/>
                <a:chOff x="4267080" y="3886200"/>
                <a:chExt cx="1587240" cy="976320"/>
              </a:xfrm>
            </p:grpSpPr>
            <p:grpSp>
              <p:nvGrpSpPr>
                <p:cNvPr id="170" name=""/>
                <p:cNvGrpSpPr/>
                <p:nvPr/>
              </p:nvGrpSpPr>
              <p:grpSpPr>
                <a:xfrm>
                  <a:off x="4267080" y="3886200"/>
                  <a:ext cx="1587240" cy="976320"/>
                  <a:chOff x="4267080" y="3886200"/>
                  <a:chExt cx="1587240" cy="976320"/>
                </a:xfrm>
              </p:grpSpPr>
              <p:grpSp>
                <p:nvGrpSpPr>
                  <p:cNvPr id="171" name=""/>
                  <p:cNvGrpSpPr/>
                  <p:nvPr/>
                </p:nvGrpSpPr>
                <p:grpSpPr>
                  <a:xfrm>
                    <a:off x="5202000" y="3978000"/>
                    <a:ext cx="652320" cy="838440"/>
                    <a:chOff x="5202000" y="3978000"/>
                    <a:chExt cx="652320" cy="838440"/>
                  </a:xfrm>
                </p:grpSpPr>
                <p:grpSp>
                  <p:nvGrpSpPr>
                    <p:cNvPr id="172" name=""/>
                    <p:cNvGrpSpPr/>
                    <p:nvPr/>
                  </p:nvGrpSpPr>
                  <p:grpSpPr>
                    <a:xfrm>
                      <a:off x="5456160" y="3978000"/>
                      <a:ext cx="398160" cy="669960"/>
                      <a:chOff x="5456160" y="3978000"/>
                      <a:chExt cx="398160" cy="669960"/>
                    </a:xfrm>
                  </p:grpSpPr>
                  <p:grpSp>
                    <p:nvGrpSpPr>
                      <p:cNvPr id="173" name=""/>
                      <p:cNvGrpSpPr/>
                      <p:nvPr/>
                    </p:nvGrpSpPr>
                    <p:grpSpPr>
                      <a:xfrm>
                        <a:off x="5560920" y="4065480"/>
                        <a:ext cx="293400" cy="491760"/>
                        <a:chOff x="5560920" y="4065480"/>
                        <a:chExt cx="293400" cy="491760"/>
                      </a:xfrm>
                    </p:grpSpPr>
                    <p:grpSp>
                      <p:nvGrpSpPr>
                        <p:cNvPr id="174" name=""/>
                        <p:cNvGrpSpPr/>
                        <p:nvPr/>
                      </p:nvGrpSpPr>
                      <p:grpSpPr>
                        <a:xfrm>
                          <a:off x="5560920" y="4065480"/>
                          <a:ext cx="293400" cy="491760"/>
                          <a:chOff x="5560920" y="4065480"/>
                          <a:chExt cx="293400" cy="491760"/>
                        </a:xfrm>
                      </p:grpSpPr>
                      <p:grpSp>
                        <p:nvGrpSpPr>
                          <p:cNvPr id="175" name=""/>
                          <p:cNvGrpSpPr/>
                          <p:nvPr/>
                        </p:nvGrpSpPr>
                        <p:grpSpPr>
                          <a:xfrm>
                            <a:off x="5640120" y="4097160"/>
                            <a:ext cx="214200" cy="399600"/>
                            <a:chOff x="5640120" y="4097160"/>
                            <a:chExt cx="214200" cy="399600"/>
                          </a:xfrm>
                        </p:grpSpPr>
                        <p:grpSp>
                          <p:nvGrpSpPr>
                            <p:cNvPr id="176" name=""/>
                            <p:cNvGrpSpPr/>
                            <p:nvPr/>
                          </p:nvGrpSpPr>
                          <p:grpSpPr>
                            <a:xfrm>
                              <a:off x="5663880" y="4097160"/>
                              <a:ext cx="190440" cy="399600"/>
                              <a:chOff x="5663880" y="4097160"/>
                              <a:chExt cx="190440" cy="399600"/>
                            </a:xfrm>
                          </p:grpSpPr>
                          <p:sp>
                            <p:nvSpPr>
                              <p:cNvPr id="177" name=""/>
                              <p:cNvSpPr/>
                              <p:nvPr/>
                            </p:nvSpPr>
                            <p:spPr>
                              <a:xfrm>
                                <a:off x="5768640" y="4340520"/>
                                <a:ext cx="85680" cy="939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19800" bIns="19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8" name=""/>
                              <p:cNvSpPr/>
                              <p:nvPr/>
                            </p:nvSpPr>
                            <p:spPr>
                              <a:xfrm>
                                <a:off x="5689440" y="4368240"/>
                                <a:ext cx="112680" cy="12852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4280" bIns="4428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9" name=""/>
                              <p:cNvSpPr/>
                              <p:nvPr/>
                            </p:nvSpPr>
                            <p:spPr>
                              <a:xfrm>
                                <a:off x="5741640" y="4186440"/>
                                <a:ext cx="85680" cy="9864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23040" bIns="2304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0" name=""/>
                              <p:cNvSpPr/>
                              <p:nvPr/>
                            </p:nvSpPr>
                            <p:spPr>
                              <a:xfrm>
                                <a:off x="5663880" y="4097160"/>
                                <a:ext cx="111240" cy="1263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2840" bIns="4284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1" name=""/>
                              <p:cNvSpPr/>
                              <p:nvPr/>
                            </p:nvSpPr>
                            <p:spPr>
                              <a:xfrm>
                                <a:off x="5741640" y="4184280"/>
                                <a:ext cx="81000" cy="231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51" h="101">
                                    <a:moveTo>
                                      <a:pt x="50" y="99"/>
                                    </a:moveTo>
                                    <a:lnTo>
                                      <a:pt x="28" y="100"/>
                                    </a:lnTo>
                                    <a:lnTo>
                                      <a:pt x="0" y="0"/>
                                    </a:lnTo>
                                    <a:lnTo>
                                      <a:pt x="31" y="7"/>
                                    </a:lnTo>
                                    <a:lnTo>
                                      <a:pt x="32" y="56"/>
                                    </a:lnTo>
                                    <a:lnTo>
                                      <a:pt x="50" y="99"/>
                                    </a:lnTo>
                                  </a:path>
                                </a:pathLst>
                              </a:custGeom>
                              <a:solidFill>
                                <a:srgbClr val="33cc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82" name=""/>
                            <p:cNvSpPr/>
                            <p:nvPr/>
                          </p:nvSpPr>
                          <p:spPr>
                            <a:xfrm>
                              <a:off x="5640120" y="4218840"/>
                              <a:ext cx="162000" cy="18576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83" name=""/>
                            <p:cNvSpPr/>
                            <p:nvPr/>
                          </p:nvSpPr>
                          <p:spPr>
                            <a:xfrm>
                              <a:off x="5640120" y="4340880"/>
                              <a:ext cx="108000" cy="12600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2480" bIns="42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84" name=""/>
                            <p:cNvSpPr/>
                            <p:nvPr/>
                          </p:nvSpPr>
                          <p:spPr>
                            <a:xfrm>
                              <a:off x="5675040" y="4156920"/>
                              <a:ext cx="82440" cy="2505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2" h="109">
                                  <a:moveTo>
                                    <a:pt x="46" y="18"/>
                                  </a:moveTo>
                                  <a:lnTo>
                                    <a:pt x="41" y="41"/>
                                  </a:lnTo>
                                  <a:lnTo>
                                    <a:pt x="51" y="93"/>
                                  </a:lnTo>
                                  <a:lnTo>
                                    <a:pt x="31" y="108"/>
                                  </a:lnTo>
                                  <a:lnTo>
                                    <a:pt x="0" y="45"/>
                                  </a:lnTo>
                                  <a:lnTo>
                                    <a:pt x="24" y="0"/>
                                  </a:lnTo>
                                  <a:lnTo>
                                    <a:pt x="46" y="18"/>
                                  </a:lnTo>
                                </a:path>
                              </a:pathLst>
                            </a:custGeom>
                            <a:solidFill>
                              <a:srgbClr val="33cc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85" name=""/>
                          <p:cNvSpPr/>
                          <p:nvPr/>
                        </p:nvSpPr>
                        <p:spPr>
                          <a:xfrm>
                            <a:off x="5640120" y="4460760"/>
                            <a:ext cx="82440" cy="9648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21600" bIns="216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6" name=""/>
                          <p:cNvSpPr/>
                          <p:nvPr/>
                        </p:nvSpPr>
                        <p:spPr>
                          <a:xfrm>
                            <a:off x="5560920" y="4065480"/>
                            <a:ext cx="110880" cy="12852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7" name=""/>
                          <p:cNvSpPr/>
                          <p:nvPr/>
                        </p:nvSpPr>
                        <p:spPr>
                          <a:xfrm>
                            <a:off x="5667120" y="4428360"/>
                            <a:ext cx="57240" cy="46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6" h="20">
                                <a:moveTo>
                                  <a:pt x="35" y="12"/>
                                </a:moveTo>
                                <a:lnTo>
                                  <a:pt x="24" y="19"/>
                                </a:lnTo>
                                <a:lnTo>
                                  <a:pt x="0" y="9"/>
                                </a:lnTo>
                                <a:lnTo>
                                  <a:pt x="24" y="0"/>
                                </a:lnTo>
                                <a:lnTo>
                                  <a:pt x="35" y="12"/>
                                </a:lnTo>
                              </a:path>
                            </a:pathLst>
                          </a:custGeom>
                          <a:solidFill>
                            <a:srgbClr val="33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720" bIns="-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>
                          <a:off x="5654520" y="4129560"/>
                          <a:ext cx="33120" cy="75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1" h="33">
                              <a:moveTo>
                                <a:pt x="10" y="0"/>
                              </a:moveTo>
                              <a:lnTo>
                                <a:pt x="20" y="0"/>
                              </a:lnTo>
                              <a:lnTo>
                                <a:pt x="16" y="32"/>
                              </a:lnTo>
                              <a:lnTo>
                                <a:pt x="0" y="26"/>
                              </a:lnTo>
                              <a:lnTo>
                                <a:pt x="10" y="0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9160" bIns="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9" name=""/>
                      <p:cNvGrpSpPr/>
                      <p:nvPr/>
                    </p:nvGrpSpPr>
                    <p:grpSpPr>
                      <a:xfrm>
                        <a:off x="5456160" y="3978000"/>
                        <a:ext cx="266400" cy="609840"/>
                        <a:chOff x="5456160" y="3978000"/>
                        <a:chExt cx="266400" cy="609840"/>
                      </a:xfrm>
                    </p:grpSpPr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>
                          <a:off x="5481360" y="4341600"/>
                          <a:ext cx="216000" cy="24624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>
                          <a:off x="5506920" y="4157280"/>
                          <a:ext cx="215640" cy="24840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>
                          <a:off x="5456160" y="3978000"/>
                          <a:ext cx="163440" cy="18900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>
                          <a:off x="5560920" y="4097520"/>
                          <a:ext cx="85680" cy="9684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1960" bIns="219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>
                          <a:off x="5508360" y="4072320"/>
                          <a:ext cx="146160" cy="223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2" h="97">
                              <a:moveTo>
                                <a:pt x="64" y="3"/>
                              </a:moveTo>
                              <a:lnTo>
                                <a:pt x="63" y="15"/>
                              </a:lnTo>
                              <a:lnTo>
                                <a:pt x="85" y="36"/>
                              </a:lnTo>
                              <a:lnTo>
                                <a:pt x="91" y="39"/>
                              </a:lnTo>
                              <a:lnTo>
                                <a:pt x="59" y="96"/>
                              </a:lnTo>
                              <a:lnTo>
                                <a:pt x="0" y="0"/>
                              </a:lnTo>
                              <a:lnTo>
                                <a:pt x="64" y="3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>
                          <a:off x="5578200" y="4385520"/>
                          <a:ext cx="96840" cy="5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1" h="26">
                              <a:moveTo>
                                <a:pt x="53" y="3"/>
                              </a:moveTo>
                              <a:lnTo>
                                <a:pt x="60" y="11"/>
                              </a:lnTo>
                              <a:lnTo>
                                <a:pt x="0" y="25"/>
                              </a:lnTo>
                              <a:lnTo>
                                <a:pt x="2" y="0"/>
                              </a:lnTo>
                              <a:lnTo>
                                <a:pt x="53" y="3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2600" bIns="126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96" name=""/>
                      <p:cNvSpPr/>
                      <p:nvPr/>
                    </p:nvSpPr>
                    <p:spPr>
                      <a:xfrm>
                        <a:off x="5456160" y="4521600"/>
                        <a:ext cx="112680" cy="12636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2840" bIns="428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7" name=""/>
                      <p:cNvSpPr/>
                      <p:nvPr/>
                    </p:nvSpPr>
                    <p:spPr>
                      <a:xfrm>
                        <a:off x="5535360" y="4502880"/>
                        <a:ext cx="60480" cy="74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32">
                            <a:moveTo>
                              <a:pt x="15" y="31"/>
                            </a:moveTo>
                            <a:lnTo>
                              <a:pt x="37" y="20"/>
                            </a:lnTo>
                            <a:lnTo>
                              <a:pt x="11" y="0"/>
                            </a:lnTo>
                            <a:lnTo>
                              <a:pt x="0" y="11"/>
                            </a:lnTo>
                            <a:lnTo>
                              <a:pt x="15" y="31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360" bIns="27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5202000" y="4659840"/>
                      <a:ext cx="136440" cy="1566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325840" y="4659840"/>
                      <a:ext cx="112680" cy="1267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0" bIns="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397120" y="4611960"/>
                      <a:ext cx="111240" cy="12636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2840" bIns="42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5290920" y="4581720"/>
                      <a:ext cx="245880" cy="19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84">
                          <a:moveTo>
                            <a:pt x="143" y="24"/>
                          </a:moveTo>
                          <a:lnTo>
                            <a:pt x="128" y="29"/>
                          </a:lnTo>
                          <a:lnTo>
                            <a:pt x="87" y="63"/>
                          </a:lnTo>
                          <a:lnTo>
                            <a:pt x="77" y="77"/>
                          </a:lnTo>
                          <a:lnTo>
                            <a:pt x="32" y="77"/>
                          </a:lnTo>
                          <a:lnTo>
                            <a:pt x="23" y="83"/>
                          </a:lnTo>
                          <a:lnTo>
                            <a:pt x="0" y="58"/>
                          </a:lnTo>
                          <a:lnTo>
                            <a:pt x="104" y="0"/>
                          </a:lnTo>
                          <a:lnTo>
                            <a:pt x="154" y="13"/>
                          </a:lnTo>
                          <a:lnTo>
                            <a:pt x="143" y="24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267080" y="3982680"/>
                    <a:ext cx="387360" cy="577440"/>
                    <a:chOff x="4267080" y="3982680"/>
                    <a:chExt cx="387360" cy="577440"/>
                  </a:xfrm>
                </p:grpSpPr>
                <p:grpSp>
                  <p:nvGrpSpPr>
                    <p:cNvPr id="203" name=""/>
                    <p:cNvGrpSpPr/>
                    <p:nvPr/>
                  </p:nvGrpSpPr>
                  <p:grpSpPr>
                    <a:xfrm>
                      <a:off x="4267080" y="4065480"/>
                      <a:ext cx="204480" cy="339840"/>
                      <a:chOff x="4267080" y="4065480"/>
                      <a:chExt cx="204480" cy="339840"/>
                    </a:xfrm>
                  </p:grpSpPr>
                  <p:sp>
                    <p:nvSpPr>
                      <p:cNvPr id="204" name=""/>
                      <p:cNvSpPr/>
                      <p:nvPr/>
                    </p:nvSpPr>
                    <p:spPr>
                      <a:xfrm>
                        <a:off x="4267080" y="4186800"/>
                        <a:ext cx="82440" cy="990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3400" bIns="234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5" name=""/>
                      <p:cNvSpPr/>
                      <p:nvPr/>
                    </p:nvSpPr>
                    <p:spPr>
                      <a:xfrm>
                        <a:off x="4284360" y="4279320"/>
                        <a:ext cx="111240" cy="1260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2480" bIns="424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6" name=""/>
                      <p:cNvSpPr/>
                      <p:nvPr/>
                    </p:nvSpPr>
                    <p:spPr>
                      <a:xfrm>
                        <a:off x="4308120" y="4065480"/>
                        <a:ext cx="163440" cy="1882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7" name=""/>
                      <p:cNvSpPr/>
                      <p:nvPr/>
                    </p:nvSpPr>
                    <p:spPr>
                      <a:xfrm>
                        <a:off x="4294080" y="4196520"/>
                        <a:ext cx="60120" cy="10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47">
                            <a:moveTo>
                              <a:pt x="21" y="0"/>
                            </a:moveTo>
                            <a:lnTo>
                              <a:pt x="0" y="9"/>
                            </a:lnTo>
                            <a:lnTo>
                              <a:pt x="0" y="37"/>
                            </a:lnTo>
                            <a:lnTo>
                              <a:pt x="8" y="46"/>
                            </a:lnTo>
                            <a:lnTo>
                              <a:pt x="37" y="37"/>
                            </a:lnTo>
                            <a:lnTo>
                              <a:pt x="21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08" name=""/>
                    <p:cNvGrpSpPr/>
                    <p:nvPr/>
                  </p:nvGrpSpPr>
                  <p:grpSpPr>
                    <a:xfrm>
                      <a:off x="4335120" y="3982680"/>
                      <a:ext cx="319320" cy="577440"/>
                      <a:chOff x="4335120" y="3982680"/>
                      <a:chExt cx="319320" cy="577440"/>
                    </a:xfrm>
                  </p:grpSpPr>
                  <p:sp>
                    <p:nvSpPr>
                      <p:cNvPr id="209" name=""/>
                      <p:cNvSpPr/>
                      <p:nvPr/>
                    </p:nvSpPr>
                    <p:spPr>
                      <a:xfrm>
                        <a:off x="4439880" y="4007520"/>
                        <a:ext cx="214560" cy="24624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0" name=""/>
                      <p:cNvSpPr/>
                      <p:nvPr/>
                    </p:nvSpPr>
                    <p:spPr>
                      <a:xfrm>
                        <a:off x="4335120" y="4187160"/>
                        <a:ext cx="112680" cy="1267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3200" bIns="43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1" name=""/>
                      <p:cNvSpPr/>
                      <p:nvPr/>
                    </p:nvSpPr>
                    <p:spPr>
                      <a:xfrm>
                        <a:off x="4362120" y="4279680"/>
                        <a:ext cx="165240" cy="1882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2" name=""/>
                      <p:cNvSpPr/>
                      <p:nvPr/>
                    </p:nvSpPr>
                    <p:spPr>
                      <a:xfrm>
                        <a:off x="4414680" y="4369320"/>
                        <a:ext cx="160200" cy="1908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3" name=""/>
                      <p:cNvSpPr/>
                      <p:nvPr/>
                    </p:nvSpPr>
                    <p:spPr>
                      <a:xfrm>
                        <a:off x="4425840" y="4131720"/>
                        <a:ext cx="145800" cy="1612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4" name=""/>
                      <p:cNvSpPr/>
                      <p:nvPr/>
                    </p:nvSpPr>
                    <p:spPr>
                      <a:xfrm>
                        <a:off x="4559040" y="3982680"/>
                        <a:ext cx="82440" cy="943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0160" bIns="20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" name=""/>
                      <p:cNvSpPr/>
                      <p:nvPr/>
                    </p:nvSpPr>
                    <p:spPr>
                      <a:xfrm>
                        <a:off x="4471560" y="4093200"/>
                        <a:ext cx="106560" cy="84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7" h="37">
                            <a:moveTo>
                              <a:pt x="0" y="10"/>
                            </a:moveTo>
                            <a:lnTo>
                              <a:pt x="8" y="26"/>
                            </a:lnTo>
                            <a:lnTo>
                              <a:pt x="66" y="36"/>
                            </a:lnTo>
                            <a:lnTo>
                              <a:pt x="66" y="14"/>
                            </a:lnTo>
                            <a:lnTo>
                              <a:pt x="4" y="0"/>
                            </a:lnTo>
                            <a:lnTo>
                              <a:pt x="0" y="1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8160" bIns="38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6" name=""/>
                      <p:cNvSpPr/>
                      <p:nvPr/>
                    </p:nvSpPr>
                    <p:spPr>
                      <a:xfrm>
                        <a:off x="4366800" y="4249440"/>
                        <a:ext cx="122400" cy="177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" h="77">
                            <a:moveTo>
                              <a:pt x="47" y="0"/>
                            </a:moveTo>
                            <a:lnTo>
                              <a:pt x="0" y="19"/>
                            </a:lnTo>
                            <a:lnTo>
                              <a:pt x="19" y="34"/>
                            </a:lnTo>
                            <a:lnTo>
                              <a:pt x="22" y="71"/>
                            </a:lnTo>
                            <a:lnTo>
                              <a:pt x="33" y="76"/>
                            </a:lnTo>
                            <a:lnTo>
                              <a:pt x="73" y="52"/>
                            </a:lnTo>
                            <a:lnTo>
                              <a:pt x="76" y="7"/>
                            </a:lnTo>
                            <a:lnTo>
                              <a:pt x="47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4546440" y="4039920"/>
                      <a:ext cx="65160" cy="8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36">
                          <a:moveTo>
                            <a:pt x="0" y="19"/>
                          </a:moveTo>
                          <a:lnTo>
                            <a:pt x="17" y="0"/>
                          </a:lnTo>
                          <a:lnTo>
                            <a:pt x="40" y="19"/>
                          </a:lnTo>
                          <a:lnTo>
                            <a:pt x="21" y="35"/>
                          </a:lnTo>
                          <a:lnTo>
                            <a:pt x="0" y="19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0" bIns="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8" name=""/>
                  <p:cNvGrpSpPr/>
                  <p:nvPr/>
                </p:nvGrpSpPr>
                <p:grpSpPr>
                  <a:xfrm>
                    <a:off x="4465440" y="3886200"/>
                    <a:ext cx="1154160" cy="976320"/>
                    <a:chOff x="4465440" y="3886200"/>
                    <a:chExt cx="1154160" cy="976320"/>
                  </a:xfrm>
                </p:grpSpPr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829040" y="3917880"/>
                      <a:ext cx="269640" cy="3067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" name=""/>
                    <p:cNvSpPr/>
                    <p:nvPr/>
                  </p:nvSpPr>
                  <p:spPr>
                    <a:xfrm>
                      <a:off x="5065560" y="3886200"/>
                      <a:ext cx="214200" cy="2458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>
                      <a:off x="5273280" y="4157640"/>
                      <a:ext cx="346320" cy="4032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4593960" y="4342320"/>
                      <a:ext cx="399960" cy="4608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5171760" y="4399920"/>
                      <a:ext cx="290520" cy="3384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4492440" y="4434480"/>
                      <a:ext cx="212760" cy="2466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4465440" y="4219920"/>
                      <a:ext cx="214200" cy="2466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4568400" y="3978000"/>
                      <a:ext cx="347760" cy="3985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4883040" y="4461840"/>
                      <a:ext cx="345960" cy="400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5325840" y="4007880"/>
                      <a:ext cx="268200" cy="3067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248080" y="3886200"/>
                      <a:ext cx="241200" cy="2782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>
                      <a:off x="4555800" y="3959640"/>
                      <a:ext cx="1003320" cy="78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2" h="339">
                          <a:moveTo>
                            <a:pt x="194" y="33"/>
                          </a:moveTo>
                          <a:lnTo>
                            <a:pt x="221" y="9"/>
                          </a:lnTo>
                          <a:lnTo>
                            <a:pt x="339" y="11"/>
                          </a:lnTo>
                          <a:lnTo>
                            <a:pt x="422" y="0"/>
                          </a:lnTo>
                          <a:lnTo>
                            <a:pt x="527" y="40"/>
                          </a:lnTo>
                          <a:lnTo>
                            <a:pt x="580" y="28"/>
                          </a:lnTo>
                          <a:lnTo>
                            <a:pt x="608" y="33"/>
                          </a:lnTo>
                          <a:lnTo>
                            <a:pt x="614" y="134"/>
                          </a:lnTo>
                          <a:lnTo>
                            <a:pt x="631" y="150"/>
                          </a:lnTo>
                          <a:lnTo>
                            <a:pt x="582" y="228"/>
                          </a:lnTo>
                          <a:lnTo>
                            <a:pt x="529" y="175"/>
                          </a:lnTo>
                          <a:lnTo>
                            <a:pt x="514" y="202"/>
                          </a:lnTo>
                          <a:lnTo>
                            <a:pt x="440" y="309"/>
                          </a:lnTo>
                          <a:lnTo>
                            <a:pt x="190" y="338"/>
                          </a:lnTo>
                          <a:lnTo>
                            <a:pt x="60" y="317"/>
                          </a:lnTo>
                          <a:lnTo>
                            <a:pt x="20" y="251"/>
                          </a:lnTo>
                          <a:lnTo>
                            <a:pt x="20" y="183"/>
                          </a:lnTo>
                          <a:lnTo>
                            <a:pt x="0" y="126"/>
                          </a:lnTo>
                          <a:lnTo>
                            <a:pt x="194" y="33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31" name=""/>
                <p:cNvSpPr/>
                <p:nvPr/>
              </p:nvSpPr>
              <p:spPr>
                <a:xfrm>
                  <a:off x="4658040" y="4275720"/>
                  <a:ext cx="707400" cy="271440"/>
                </a:xfrm>
                <a:prstGeom prst="rect">
                  <a:avLst/>
                </a:pr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SPD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"/>
              <p:cNvSpPr/>
              <p:nvPr/>
            </p:nvSpPr>
            <p:spPr>
              <a:xfrm>
                <a:off x="6095880" y="4191120"/>
                <a:ext cx="1752840" cy="115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Ereignisdaten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(X.25/X.31-Verbindung mit </a:t>
                </a: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CU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oder ab 200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Internet (FTP) + IPSe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3429000" y="3581280"/>
              <a:ext cx="1320840" cy="1447920"/>
            </a:xfrm>
            <a:custGeom>
              <a:avLst/>
              <a:gdLst/>
              <a:ahLst/>
              <a:rect l="l" t="t" r="r" b="b"/>
              <a:pathLst>
                <a:path w="832" h="912">
                  <a:moveTo>
                    <a:pt x="0" y="0"/>
                  </a:moveTo>
                  <a:cubicBezTo>
                    <a:pt x="152" y="24"/>
                    <a:pt x="304" y="48"/>
                    <a:pt x="432" y="144"/>
                  </a:cubicBezTo>
                  <a:cubicBezTo>
                    <a:pt x="560" y="240"/>
                    <a:pt x="704" y="448"/>
                    <a:pt x="768" y="576"/>
                  </a:cubicBezTo>
                  <a:cubicBezTo>
                    <a:pt x="832" y="704"/>
                    <a:pt x="808" y="856"/>
                    <a:pt x="816" y="912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3809880" y="3429000"/>
            <a:ext cx="1524240" cy="1600200"/>
            <a:chOff x="3809880" y="3429000"/>
            <a:chExt cx="1524240" cy="1600200"/>
          </a:xfrm>
        </p:grpSpPr>
        <p:sp>
          <p:nvSpPr>
            <p:cNvPr id="235" name=""/>
            <p:cNvSpPr/>
            <p:nvPr/>
          </p:nvSpPr>
          <p:spPr>
            <a:xfrm>
              <a:off x="3809880" y="3429000"/>
              <a:ext cx="1219320" cy="1600200"/>
            </a:xfrm>
            <a:custGeom>
              <a:avLst/>
              <a:gdLst/>
              <a:ahLst/>
              <a:rect l="l" t="t" r="r" b="b"/>
              <a:pathLst>
                <a:path w="888" h="912">
                  <a:moveTo>
                    <a:pt x="888" y="0"/>
                  </a:moveTo>
                  <a:cubicBezTo>
                    <a:pt x="740" y="0"/>
                    <a:pt x="592" y="0"/>
                    <a:pt x="456" y="48"/>
                  </a:cubicBezTo>
                  <a:cubicBezTo>
                    <a:pt x="320" y="96"/>
                    <a:pt x="144" y="144"/>
                    <a:pt x="72" y="288"/>
                  </a:cubicBezTo>
                  <a:cubicBezTo>
                    <a:pt x="0" y="432"/>
                    <a:pt x="32" y="808"/>
                    <a:pt x="24" y="912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34120" y="3657600"/>
              <a:ext cx="0" cy="1371600"/>
            </a:xfrm>
            <a:prstGeom prst="line">
              <a:avLst/>
            </a:prstGeom>
            <a:ln w="28440">
              <a:solidFill>
                <a:srgbClr val="ff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533520" y="1066680"/>
            <a:ext cx="8292960" cy="3018600"/>
            <a:chOff x="533520" y="1066680"/>
            <a:chExt cx="8292960" cy="3018600"/>
          </a:xfrm>
        </p:grpSpPr>
        <p:grpSp>
          <p:nvGrpSpPr>
            <p:cNvPr id="238" name=""/>
            <p:cNvGrpSpPr/>
            <p:nvPr/>
          </p:nvGrpSpPr>
          <p:grpSpPr>
            <a:xfrm>
              <a:off x="5181480" y="1066680"/>
              <a:ext cx="1905120" cy="1219320"/>
              <a:chOff x="5181480" y="1066680"/>
              <a:chExt cx="1905120" cy="121932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5181480" y="1066680"/>
                <a:ext cx="1905120" cy="1219320"/>
                <a:chOff x="5181480" y="1066680"/>
                <a:chExt cx="1905120" cy="1219320"/>
              </a:xfrm>
            </p:grpSpPr>
            <p:grpSp>
              <p:nvGrpSpPr>
                <p:cNvPr id="240" name=""/>
                <p:cNvGrpSpPr/>
                <p:nvPr/>
              </p:nvGrpSpPr>
              <p:grpSpPr>
                <a:xfrm>
                  <a:off x="6303960" y="1179360"/>
                  <a:ext cx="782640" cy="1049400"/>
                  <a:chOff x="6303960" y="1179360"/>
                  <a:chExt cx="782640" cy="104940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6608880" y="1179360"/>
                    <a:ext cx="477720" cy="843120"/>
                    <a:chOff x="6608880" y="1179360"/>
                    <a:chExt cx="477720" cy="843120"/>
                  </a:xfrm>
                </p:grpSpPr>
                <p:grpSp>
                  <p:nvGrpSpPr>
                    <p:cNvPr id="242" name=""/>
                    <p:cNvGrpSpPr/>
                    <p:nvPr/>
                  </p:nvGrpSpPr>
                  <p:grpSpPr>
                    <a:xfrm>
                      <a:off x="6734160" y="1290600"/>
                      <a:ext cx="352440" cy="619200"/>
                      <a:chOff x="6734160" y="1290600"/>
                      <a:chExt cx="352440" cy="619200"/>
                    </a:xfrm>
                  </p:grpSpPr>
                  <p:grpSp>
                    <p:nvGrpSpPr>
                      <p:cNvPr id="243" name=""/>
                      <p:cNvGrpSpPr/>
                      <p:nvPr/>
                    </p:nvGrpSpPr>
                    <p:grpSpPr>
                      <a:xfrm>
                        <a:off x="6734160" y="1290600"/>
                        <a:ext cx="352440" cy="619200"/>
                        <a:chOff x="6734160" y="1290600"/>
                        <a:chExt cx="352440" cy="619200"/>
                      </a:xfrm>
                    </p:grpSpPr>
                    <p:grpSp>
                      <p:nvGrpSpPr>
                        <p:cNvPr id="244" name=""/>
                        <p:cNvGrpSpPr/>
                        <p:nvPr/>
                      </p:nvGrpSpPr>
                      <p:grpSpPr>
                        <a:xfrm>
                          <a:off x="6827760" y="1328760"/>
                          <a:ext cx="258840" cy="504720"/>
                          <a:chOff x="6827760" y="1328760"/>
                          <a:chExt cx="258840" cy="504720"/>
                        </a:xfrm>
                      </p:grpSpPr>
                      <p:grpSp>
                        <p:nvGrpSpPr>
                          <p:cNvPr id="245" name=""/>
                          <p:cNvGrpSpPr/>
                          <p:nvPr/>
                        </p:nvGrpSpPr>
                        <p:grpSpPr>
                          <a:xfrm>
                            <a:off x="6858000" y="1328760"/>
                            <a:ext cx="228600" cy="504720"/>
                            <a:chOff x="6858000" y="1328760"/>
                            <a:chExt cx="228600" cy="504720"/>
                          </a:xfrm>
                        </p:grpSpPr>
                        <p:sp>
                          <p:nvSpPr>
                            <p:cNvPr id="246" name=""/>
                            <p:cNvSpPr/>
                            <p:nvPr/>
                          </p:nvSpPr>
                          <p:spPr>
                            <a:xfrm>
                              <a:off x="6983280" y="1630440"/>
                              <a:ext cx="103320" cy="12852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4280" bIns="442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7" name=""/>
                            <p:cNvSpPr/>
                            <p:nvPr/>
                          </p:nvSpPr>
                          <p:spPr>
                            <a:xfrm>
                              <a:off x="6888240" y="1666800"/>
                              <a:ext cx="133200" cy="16668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8" name=""/>
                            <p:cNvSpPr/>
                            <p:nvPr/>
                          </p:nvSpPr>
                          <p:spPr>
                            <a:xfrm>
                              <a:off x="6951600" y="1441440"/>
                              <a:ext cx="103320" cy="13032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5360" bIns="45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9" name=""/>
                            <p:cNvSpPr/>
                            <p:nvPr/>
                          </p:nvSpPr>
                          <p:spPr>
                            <a:xfrm>
                              <a:off x="6858000" y="1328760"/>
                              <a:ext cx="133200" cy="16668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50" name=""/>
                            <p:cNvSpPr/>
                            <p:nvPr/>
                          </p:nvSpPr>
                          <p:spPr>
                            <a:xfrm>
                              <a:off x="6951600" y="1441440"/>
                              <a:ext cx="96840" cy="289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1" h="182">
                                  <a:moveTo>
                                    <a:pt x="60" y="179"/>
                                  </a:moveTo>
                                  <a:lnTo>
                                    <a:pt x="33" y="181"/>
                                  </a:lnTo>
                                  <a:lnTo>
                                    <a:pt x="0" y="0"/>
                                  </a:lnTo>
                                  <a:lnTo>
                                    <a:pt x="37" y="13"/>
                                  </a:lnTo>
                                  <a:lnTo>
                                    <a:pt x="38" y="102"/>
                                  </a:lnTo>
                                  <a:lnTo>
                                    <a:pt x="60" y="179"/>
                                  </a:lnTo>
                                </a:path>
                              </a:pathLst>
                            </a:custGeom>
                            <a:solidFill>
                              <a:srgbClr val="33cc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51" name=""/>
                          <p:cNvSpPr/>
                          <p:nvPr/>
                        </p:nvSpPr>
                        <p:spPr>
                          <a:xfrm>
                            <a:off x="6827760" y="1479600"/>
                            <a:ext cx="195480" cy="24300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52" name=""/>
                          <p:cNvSpPr/>
                          <p:nvPr/>
                        </p:nvSpPr>
                        <p:spPr>
                          <a:xfrm>
                            <a:off x="6827760" y="1630440"/>
                            <a:ext cx="131760" cy="16668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53" name=""/>
                          <p:cNvSpPr/>
                          <p:nvPr/>
                        </p:nvSpPr>
                        <p:spPr>
                          <a:xfrm>
                            <a:off x="6869160" y="1407960"/>
                            <a:ext cx="101520" cy="31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4" h="197">
                                <a:moveTo>
                                  <a:pt x="57" y="34"/>
                                </a:moveTo>
                                <a:lnTo>
                                  <a:pt x="50" y="74"/>
                                </a:lnTo>
                                <a:lnTo>
                                  <a:pt x="63" y="168"/>
                                </a:lnTo>
                                <a:lnTo>
                                  <a:pt x="37" y="196"/>
                                </a:lnTo>
                                <a:lnTo>
                                  <a:pt x="0" y="83"/>
                                </a:lnTo>
                                <a:lnTo>
                                  <a:pt x="30" y="0"/>
                                </a:lnTo>
                                <a:lnTo>
                                  <a:pt x="57" y="34"/>
                                </a:lnTo>
                              </a:path>
                            </a:pathLst>
                          </a:custGeom>
                          <a:solidFill>
                            <a:srgbClr val="33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>
                          <a:off x="6827760" y="1779480"/>
                          <a:ext cx="100080" cy="1303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5360" bIns="45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>
                          <a:off x="6734160" y="1290600"/>
                          <a:ext cx="133200" cy="1699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>
                          <a:off x="6859440" y="1746360"/>
                          <a:ext cx="71640" cy="56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5" h="36">
                              <a:moveTo>
                                <a:pt x="44" y="22"/>
                              </a:moveTo>
                              <a:lnTo>
                                <a:pt x="30" y="35"/>
                              </a:lnTo>
                              <a:lnTo>
                                <a:pt x="0" y="17"/>
                              </a:lnTo>
                              <a:lnTo>
                                <a:pt x="30" y="0"/>
                              </a:lnTo>
                              <a:lnTo>
                                <a:pt x="44" y="22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080" bIns="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57" name=""/>
                      <p:cNvSpPr/>
                      <p:nvPr/>
                    </p:nvSpPr>
                    <p:spPr>
                      <a:xfrm>
                        <a:off x="6846840" y="1373040"/>
                        <a:ext cx="39600" cy="9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" h="60">
                            <a:moveTo>
                              <a:pt x="12" y="0"/>
                            </a:moveTo>
                            <a:lnTo>
                              <a:pt x="24" y="1"/>
                            </a:lnTo>
                            <a:lnTo>
                              <a:pt x="19" y="59"/>
                            </a:lnTo>
                            <a:lnTo>
                              <a:pt x="0" y="48"/>
                            </a:lnTo>
                            <a:lnTo>
                              <a:pt x="12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58" name=""/>
                    <p:cNvGrpSpPr/>
                    <p:nvPr/>
                  </p:nvGrpSpPr>
                  <p:grpSpPr>
                    <a:xfrm>
                      <a:off x="6608880" y="1179360"/>
                      <a:ext cx="318960" cy="766800"/>
                      <a:chOff x="6608880" y="1179360"/>
                      <a:chExt cx="318960" cy="766800"/>
                    </a:xfrm>
                  </p:grpSpPr>
                  <p:sp>
                    <p:nvSpPr>
                      <p:cNvPr id="259" name=""/>
                      <p:cNvSpPr/>
                      <p:nvPr/>
                    </p:nvSpPr>
                    <p:spPr>
                      <a:xfrm>
                        <a:off x="6638760" y="1630440"/>
                        <a:ext cx="258840" cy="3157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0" name=""/>
                      <p:cNvSpPr/>
                      <p:nvPr/>
                    </p:nvSpPr>
                    <p:spPr>
                      <a:xfrm>
                        <a:off x="6669000" y="1403280"/>
                        <a:ext cx="258840" cy="3193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1" name=""/>
                      <p:cNvSpPr/>
                      <p:nvPr/>
                    </p:nvSpPr>
                    <p:spPr>
                      <a:xfrm>
                        <a:off x="6608880" y="1179360"/>
                        <a:ext cx="195120" cy="2430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2" name=""/>
                      <p:cNvSpPr/>
                      <p:nvPr/>
                    </p:nvSpPr>
                    <p:spPr>
                      <a:xfrm>
                        <a:off x="6734160" y="1328760"/>
                        <a:ext cx="100080" cy="1285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4280" bIns="442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3" name=""/>
                      <p:cNvSpPr/>
                      <p:nvPr/>
                    </p:nvSpPr>
                    <p:spPr>
                      <a:xfrm>
                        <a:off x="6669000" y="1300320"/>
                        <a:ext cx="177840" cy="28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2" h="177">
                            <a:moveTo>
                              <a:pt x="77" y="7"/>
                            </a:moveTo>
                            <a:lnTo>
                              <a:pt x="77" y="28"/>
                            </a:lnTo>
                            <a:lnTo>
                              <a:pt x="104" y="67"/>
                            </a:lnTo>
                            <a:lnTo>
                              <a:pt x="111" y="71"/>
                            </a:lnTo>
                            <a:lnTo>
                              <a:pt x="71" y="176"/>
                            </a:lnTo>
                            <a:lnTo>
                              <a:pt x="0" y="0"/>
                            </a:lnTo>
                            <a:lnTo>
                              <a:pt x="77" y="7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4" name=""/>
                      <p:cNvSpPr/>
                      <p:nvPr/>
                    </p:nvSpPr>
                    <p:spPr>
                      <a:xfrm>
                        <a:off x="6754680" y="1689120"/>
                        <a:ext cx="114480" cy="76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" h="48">
                            <a:moveTo>
                              <a:pt x="62" y="7"/>
                            </a:moveTo>
                            <a:lnTo>
                              <a:pt x="71" y="21"/>
                            </a:lnTo>
                            <a:lnTo>
                              <a:pt x="0" y="47"/>
                            </a:lnTo>
                            <a:lnTo>
                              <a:pt x="2" y="0"/>
                            </a:lnTo>
                            <a:lnTo>
                              <a:pt x="62" y="7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9520" bIns="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6608880" y="1855800"/>
                      <a:ext cx="135000" cy="166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6703920" y="1835280"/>
                      <a:ext cx="73080" cy="9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58">
                          <a:moveTo>
                            <a:pt x="18" y="57"/>
                          </a:moveTo>
                          <a:lnTo>
                            <a:pt x="45" y="37"/>
                          </a:lnTo>
                          <a:lnTo>
                            <a:pt x="13" y="0"/>
                          </a:lnTo>
                          <a:lnTo>
                            <a:pt x="0" y="21"/>
                          </a:lnTo>
                          <a:lnTo>
                            <a:pt x="18" y="57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67" name=""/>
                  <p:cNvSpPr/>
                  <p:nvPr/>
                </p:nvSpPr>
                <p:spPr>
                  <a:xfrm>
                    <a:off x="6303960" y="2025720"/>
                    <a:ext cx="163440" cy="2030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450120" y="2025720"/>
                    <a:ext cx="137880" cy="1666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39040" y="1965240"/>
                    <a:ext cx="133200" cy="1652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6410160" y="1935000"/>
                    <a:ext cx="295560" cy="236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6" h="149">
                        <a:moveTo>
                          <a:pt x="172" y="43"/>
                        </a:moveTo>
                        <a:lnTo>
                          <a:pt x="154" y="53"/>
                        </a:lnTo>
                        <a:lnTo>
                          <a:pt x="104" y="112"/>
                        </a:lnTo>
                        <a:lnTo>
                          <a:pt x="92" y="137"/>
                        </a:lnTo>
                        <a:lnTo>
                          <a:pt x="38" y="137"/>
                        </a:lnTo>
                        <a:lnTo>
                          <a:pt x="28" y="148"/>
                        </a:lnTo>
                        <a:lnTo>
                          <a:pt x="0" y="105"/>
                        </a:lnTo>
                        <a:lnTo>
                          <a:pt x="125" y="0"/>
                        </a:lnTo>
                        <a:lnTo>
                          <a:pt x="185" y="24"/>
                        </a:lnTo>
                        <a:lnTo>
                          <a:pt x="172" y="43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5181480" y="1185840"/>
                  <a:ext cx="465120" cy="725400"/>
                  <a:chOff x="5181480" y="1185840"/>
                  <a:chExt cx="465120" cy="725400"/>
                </a:xfrm>
              </p:grpSpPr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181480" y="1290600"/>
                    <a:ext cx="246240" cy="432000"/>
                    <a:chOff x="5181480" y="1290600"/>
                    <a:chExt cx="246240" cy="43200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5181480" y="1441440"/>
                      <a:ext cx="98640" cy="1303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5202360" y="1555920"/>
                      <a:ext cx="133200" cy="166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5230800" y="1290600"/>
                      <a:ext cx="196920" cy="2430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" name=""/>
                    <p:cNvSpPr/>
                    <p:nvPr/>
                  </p:nvSpPr>
                  <p:spPr>
                    <a:xfrm>
                      <a:off x="5213520" y="1455840"/>
                      <a:ext cx="72720" cy="13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85">
                          <a:moveTo>
                            <a:pt x="25" y="0"/>
                          </a:moveTo>
                          <a:lnTo>
                            <a:pt x="0" y="17"/>
                          </a:lnTo>
                          <a:lnTo>
                            <a:pt x="0" y="67"/>
                          </a:lnTo>
                          <a:lnTo>
                            <a:pt x="10" y="84"/>
                          </a:lnTo>
                          <a:lnTo>
                            <a:pt x="45" y="67"/>
                          </a:lnTo>
                          <a:lnTo>
                            <a:pt x="25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7" name=""/>
                  <p:cNvGrpSpPr/>
                  <p:nvPr/>
                </p:nvGrpSpPr>
                <p:grpSpPr>
                  <a:xfrm>
                    <a:off x="5264280" y="1185840"/>
                    <a:ext cx="382320" cy="725400"/>
                    <a:chOff x="5264280" y="1185840"/>
                    <a:chExt cx="382320" cy="725400"/>
                  </a:xfrm>
                </p:grpSpPr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5389560" y="1217520"/>
                      <a:ext cx="257040" cy="3160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5264280" y="1441440"/>
                      <a:ext cx="134640" cy="1681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5295960" y="1555920"/>
                      <a:ext cx="196920" cy="24264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5359320" y="1666800"/>
                      <a:ext cx="192240" cy="24444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5372280" y="1371600"/>
                      <a:ext cx="176040" cy="2080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5530680" y="1185840"/>
                      <a:ext cx="100080" cy="1285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5427720" y="1327320"/>
                      <a:ext cx="127080" cy="10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0" h="68">
                          <a:moveTo>
                            <a:pt x="0" y="19"/>
                          </a:moveTo>
                          <a:lnTo>
                            <a:pt x="10" y="49"/>
                          </a:lnTo>
                          <a:lnTo>
                            <a:pt x="79" y="67"/>
                          </a:lnTo>
                          <a:lnTo>
                            <a:pt x="79" y="26"/>
                          </a:lnTo>
                          <a:lnTo>
                            <a:pt x="5" y="0"/>
                          </a:lnTo>
                          <a:lnTo>
                            <a:pt x="0" y="19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5302080" y="1521000"/>
                      <a:ext cx="146160" cy="22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140">
                          <a:moveTo>
                            <a:pt x="56" y="0"/>
                          </a:moveTo>
                          <a:lnTo>
                            <a:pt x="0" y="35"/>
                          </a:lnTo>
                          <a:lnTo>
                            <a:pt x="23" y="62"/>
                          </a:lnTo>
                          <a:lnTo>
                            <a:pt x="26" y="131"/>
                          </a:lnTo>
                          <a:lnTo>
                            <a:pt x="39" y="139"/>
                          </a:lnTo>
                          <a:lnTo>
                            <a:pt x="87" y="95"/>
                          </a:lnTo>
                          <a:lnTo>
                            <a:pt x="91" y="13"/>
                          </a:lnTo>
                          <a:lnTo>
                            <a:pt x="56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6" name=""/>
                  <p:cNvSpPr/>
                  <p:nvPr/>
                </p:nvSpPr>
                <p:spPr>
                  <a:xfrm>
                    <a:off x="5516640" y="1263600"/>
                    <a:ext cx="7920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65">
                        <a:moveTo>
                          <a:pt x="0" y="35"/>
                        </a:moveTo>
                        <a:lnTo>
                          <a:pt x="21" y="0"/>
                        </a:lnTo>
                        <a:lnTo>
                          <a:pt x="49" y="35"/>
                        </a:lnTo>
                        <a:lnTo>
                          <a:pt x="26" y="64"/>
                        </a:lnTo>
                        <a:lnTo>
                          <a:pt x="0" y="35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7" name=""/>
                <p:cNvGrpSpPr/>
                <p:nvPr/>
              </p:nvGrpSpPr>
              <p:grpSpPr>
                <a:xfrm>
                  <a:off x="5419800" y="1066680"/>
                  <a:ext cx="1384200" cy="1219320"/>
                  <a:chOff x="5419800" y="1066680"/>
                  <a:chExt cx="1384200" cy="121932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5856120" y="1104840"/>
                    <a:ext cx="324000" cy="39060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6138720" y="1066680"/>
                    <a:ext cx="257400" cy="3160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6389640" y="1405080"/>
                    <a:ext cx="414360" cy="5061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573880" y="1630440"/>
                    <a:ext cx="477720" cy="5810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6265800" y="1704960"/>
                    <a:ext cx="349200" cy="4287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5450040" y="1743120"/>
                    <a:ext cx="257040" cy="3175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5419800" y="1479600"/>
                    <a:ext cx="257040" cy="3157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5543640" y="1179360"/>
                    <a:ext cx="417600" cy="5050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5919840" y="1779480"/>
                    <a:ext cx="415800" cy="5065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6450120" y="1217520"/>
                    <a:ext cx="323640" cy="3920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6356520" y="1066680"/>
                    <a:ext cx="291960" cy="3542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5527800" y="1162080"/>
                    <a:ext cx="1203120" cy="9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758" h="610">
                        <a:moveTo>
                          <a:pt x="233" y="61"/>
                        </a:moveTo>
                        <a:lnTo>
                          <a:pt x="265" y="18"/>
                        </a:lnTo>
                        <a:lnTo>
                          <a:pt x="407" y="21"/>
                        </a:lnTo>
                        <a:lnTo>
                          <a:pt x="506" y="0"/>
                        </a:lnTo>
                        <a:lnTo>
                          <a:pt x="632" y="72"/>
                        </a:lnTo>
                        <a:lnTo>
                          <a:pt x="696" y="52"/>
                        </a:lnTo>
                        <a:lnTo>
                          <a:pt x="729" y="61"/>
                        </a:lnTo>
                        <a:lnTo>
                          <a:pt x="736" y="243"/>
                        </a:lnTo>
                        <a:lnTo>
                          <a:pt x="757" y="270"/>
                        </a:lnTo>
                        <a:lnTo>
                          <a:pt x="698" y="411"/>
                        </a:lnTo>
                        <a:lnTo>
                          <a:pt x="634" y="316"/>
                        </a:lnTo>
                        <a:lnTo>
                          <a:pt x="616" y="364"/>
                        </a:lnTo>
                        <a:lnTo>
                          <a:pt x="528" y="557"/>
                        </a:lnTo>
                        <a:lnTo>
                          <a:pt x="228" y="609"/>
                        </a:lnTo>
                        <a:lnTo>
                          <a:pt x="72" y="571"/>
                        </a:lnTo>
                        <a:lnTo>
                          <a:pt x="24" y="452"/>
                        </a:lnTo>
                        <a:lnTo>
                          <a:pt x="24" y="330"/>
                        </a:lnTo>
                        <a:lnTo>
                          <a:pt x="0" y="227"/>
                        </a:lnTo>
                        <a:lnTo>
                          <a:pt x="233" y="61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00" name=""/>
              <p:cNvSpPr/>
              <p:nvPr/>
            </p:nvSpPr>
            <p:spPr>
              <a:xfrm>
                <a:off x="5651640" y="1554120"/>
                <a:ext cx="1078920" cy="45396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etz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ISDN, GSM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1981080" y="1752480"/>
              <a:ext cx="1498680" cy="2210040"/>
            </a:xfrm>
            <a:prstGeom prst="rect">
              <a:avLst/>
            </a:prstGeom>
            <a:solidFill>
              <a:srgbClr val="cccc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934320" y="1752480"/>
              <a:ext cx="45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934320" y="190512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1828800"/>
              <a:ext cx="76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</a:rPr>
                <a:t>ZÜ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905120" y="1752480"/>
              <a:ext cx="1981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-Netzknot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286000" y="2438280"/>
              <a:ext cx="1066680" cy="68580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971800" y="3429000"/>
              <a:ext cx="457200" cy="304920"/>
            </a:xfrm>
            <a:prstGeom prst="rect">
              <a:avLst/>
            </a:prstGeom>
            <a:solidFill>
              <a:srgbClr val="0033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0600" y="2895480"/>
              <a:ext cx="4025880" cy="9144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105520" y="3048120"/>
              <a:ext cx="1054080" cy="647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ÜA-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635880" y="3054240"/>
              <a:ext cx="1054080" cy="603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x sons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772400" y="2895480"/>
              <a:ext cx="75564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..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172200" y="342900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800600" y="2895480"/>
              <a:ext cx="4025880" cy="9144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105520" y="3048120"/>
              <a:ext cx="1054080" cy="647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ÜA-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635880" y="3054240"/>
              <a:ext cx="1054080" cy="603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x sons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772400" y="2895480"/>
              <a:ext cx="75564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..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172200" y="342900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553080" y="2590920"/>
              <a:ext cx="1752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Voice  Mail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105520" y="3048120"/>
              <a:ext cx="1054080" cy="647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ÜA-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635880" y="3054240"/>
              <a:ext cx="1054080" cy="603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x sons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172200" y="342900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819520" y="2590920"/>
              <a:ext cx="228600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895480" y="2743200"/>
              <a:ext cx="2210040" cy="60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711520" y="255276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863800" y="270504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2743200" y="1600200"/>
              <a:ext cx="25146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2895480" y="1752480"/>
              <a:ext cx="243864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1219320" y="274320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1218960" y="259092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30" name=""/>
            <p:cNvGraphicFramePr/>
            <p:nvPr/>
          </p:nvGraphicFramePr>
          <p:xfrm>
            <a:off x="7315200" y="1447920"/>
            <a:ext cx="1028880" cy="777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3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315200" y="1447920"/>
                      <a:ext cx="1028880" cy="77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32" name=""/>
            <p:cNvGrpSpPr/>
            <p:nvPr/>
          </p:nvGrpSpPr>
          <p:grpSpPr>
            <a:xfrm>
              <a:off x="5791320" y="2057400"/>
              <a:ext cx="228600" cy="990720"/>
              <a:chOff x="5791320" y="2057400"/>
              <a:chExt cx="228600" cy="990720"/>
            </a:xfrm>
          </p:grpSpPr>
          <p:sp>
            <p:nvSpPr>
              <p:cNvPr id="333" name=""/>
              <p:cNvSpPr/>
              <p:nvPr/>
            </p:nvSpPr>
            <p:spPr>
              <a:xfrm>
                <a:off x="5791320" y="2057400"/>
                <a:ext cx="0" cy="9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019920" y="2209680"/>
                <a:ext cx="0" cy="83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35" name="" descr="Zum Downloaden klicken"/>
            <p:cNvPicPr/>
            <p:nvPr/>
          </p:nvPicPr>
          <p:blipFill>
            <a:blip r:embed="rId5"/>
            <a:stretch/>
          </p:blipFill>
          <p:spPr>
            <a:xfrm>
              <a:off x="533520" y="2209680"/>
              <a:ext cx="990360" cy="990720"/>
            </a:xfrm>
            <a:prstGeom prst="rect">
              <a:avLst/>
            </a:prstGeom>
            <a:ln w="28440">
              <a:solidFill>
                <a:srgbClr val="cc3300"/>
              </a:solidFill>
              <a:miter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CDF1-A70D-4AD5-B801-58D33DA7DCE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C3B289-BDE9-47C1-93BA-51C2F3798041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Ü im intelligenten Ne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0" name=""/>
          <p:cNvGrpSpPr/>
          <p:nvPr/>
        </p:nvGrpSpPr>
        <p:grpSpPr>
          <a:xfrm>
            <a:off x="2058840" y="2590920"/>
            <a:ext cx="2284560" cy="609480"/>
            <a:chOff x="2058840" y="2590920"/>
            <a:chExt cx="2284560" cy="609480"/>
          </a:xfrm>
        </p:grpSpPr>
        <p:sp>
          <p:nvSpPr>
            <p:cNvPr id="341" name=""/>
            <p:cNvSpPr/>
            <p:nvPr/>
          </p:nvSpPr>
          <p:spPr>
            <a:xfrm>
              <a:off x="3962520" y="2590920"/>
              <a:ext cx="380880" cy="609480"/>
            </a:xfrm>
            <a:prstGeom prst="upArrow">
              <a:avLst>
                <a:gd name="adj1" fmla="val 50000"/>
                <a:gd name="adj2" fmla="val 4000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058840" y="2819520"/>
              <a:ext cx="1857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700 123456 (IN#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572000" y="2590920"/>
            <a:ext cx="1749960" cy="609480"/>
            <a:chOff x="4572000" y="2590920"/>
            <a:chExt cx="1749960" cy="609480"/>
          </a:xfrm>
        </p:grpSpPr>
        <p:sp>
          <p:nvSpPr>
            <p:cNvPr id="344" name=""/>
            <p:cNvSpPr/>
            <p:nvPr/>
          </p:nvSpPr>
          <p:spPr>
            <a:xfrm>
              <a:off x="4572000" y="2590920"/>
              <a:ext cx="343080" cy="609480"/>
            </a:xfrm>
            <a:prstGeom prst="downArrow">
              <a:avLst>
                <a:gd name="adj1" fmla="val 50000"/>
                <a:gd name="adj2" fmla="val 44412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878000" y="2743200"/>
              <a:ext cx="1443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286000" y="1523880"/>
            <a:ext cx="1523880" cy="641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Übersetzung der IN- Rufnummer in eine Zielruf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8600" y="3733920"/>
            <a:ext cx="8458200" cy="1600200"/>
            <a:chOff x="228600" y="3733920"/>
            <a:chExt cx="8458200" cy="1600200"/>
          </a:xfrm>
        </p:grpSpPr>
        <p:sp>
          <p:nvSpPr>
            <p:cNvPr id="348" name=""/>
            <p:cNvSpPr/>
            <p:nvPr/>
          </p:nvSpPr>
          <p:spPr>
            <a:xfrm>
              <a:off x="3085920" y="3733920"/>
              <a:ext cx="2514600" cy="1600200"/>
            </a:xfrm>
            <a:prstGeom prst="rect">
              <a:avLst/>
            </a:prstGeom>
            <a:solidFill>
              <a:srgbClr val="ff99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49" name=""/>
            <p:cNvGraphicFramePr/>
            <p:nvPr/>
          </p:nvGraphicFramePr>
          <p:xfrm>
            <a:off x="228600" y="4572000"/>
            <a:ext cx="457200" cy="195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5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8600" y="4572000"/>
                      <a:ext cx="457200" cy="19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1" name=""/>
            <p:cNvSpPr/>
            <p:nvPr/>
          </p:nvSpPr>
          <p:spPr>
            <a:xfrm>
              <a:off x="685800" y="46483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286000" y="46483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06360" y="41911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34640" y="5029200"/>
              <a:ext cx="1377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SDN-Netzknoten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55" name=""/>
            <p:cNvGraphicFramePr/>
            <p:nvPr/>
          </p:nvGraphicFramePr>
          <p:xfrm>
            <a:off x="8229600" y="4603680"/>
            <a:ext cx="457200" cy="195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5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229600" y="4603680"/>
                      <a:ext cx="457200" cy="19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7" name=""/>
            <p:cNvSpPr/>
            <p:nvPr/>
          </p:nvSpPr>
          <p:spPr>
            <a:xfrm>
              <a:off x="5638680" y="4680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543800" y="4680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307360" y="429912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990360" y="4267080"/>
              <a:ext cx="1599120" cy="673200"/>
              <a:chOff x="990360" y="4267080"/>
              <a:chExt cx="1599120" cy="673200"/>
            </a:xfrm>
          </p:grpSpPr>
          <p:grpSp>
            <p:nvGrpSpPr>
              <p:cNvPr id="361" name=""/>
              <p:cNvGrpSpPr/>
              <p:nvPr/>
            </p:nvGrpSpPr>
            <p:grpSpPr>
              <a:xfrm>
                <a:off x="990360" y="4267080"/>
                <a:ext cx="1599120" cy="673200"/>
                <a:chOff x="990360" y="4267080"/>
                <a:chExt cx="1599120" cy="673200"/>
              </a:xfrm>
            </p:grpSpPr>
            <p:grpSp>
              <p:nvGrpSpPr>
                <p:cNvPr id="362" name=""/>
                <p:cNvGrpSpPr/>
                <p:nvPr/>
              </p:nvGrpSpPr>
              <p:grpSpPr>
                <a:xfrm>
                  <a:off x="1931400" y="4330800"/>
                  <a:ext cx="658080" cy="577800"/>
                  <a:chOff x="1931400" y="4330800"/>
                  <a:chExt cx="658080" cy="577800"/>
                </a:xfrm>
              </p:grpSpPr>
              <p:grpSp>
                <p:nvGrpSpPr>
                  <p:cNvPr id="363" name=""/>
                  <p:cNvGrpSpPr/>
                  <p:nvPr/>
                </p:nvGrpSpPr>
                <p:grpSpPr>
                  <a:xfrm>
                    <a:off x="2187000" y="4330800"/>
                    <a:ext cx="402480" cy="461880"/>
                    <a:chOff x="2187000" y="4330800"/>
                    <a:chExt cx="402480" cy="461880"/>
                  </a:xfrm>
                </p:grpSpPr>
                <p:grpSp>
                  <p:nvGrpSpPr>
                    <p:cNvPr id="364" name=""/>
                    <p:cNvGrpSpPr/>
                    <p:nvPr/>
                  </p:nvGrpSpPr>
                  <p:grpSpPr>
                    <a:xfrm>
                      <a:off x="2292120" y="4390920"/>
                      <a:ext cx="297360" cy="339840"/>
                      <a:chOff x="2292120" y="4390920"/>
                      <a:chExt cx="297360" cy="339840"/>
                    </a:xfrm>
                  </p:grpSpPr>
                  <p:grpSp>
                    <p:nvGrpSpPr>
                      <p:cNvPr id="365" name=""/>
                      <p:cNvGrpSpPr/>
                      <p:nvPr/>
                    </p:nvGrpSpPr>
                    <p:grpSpPr>
                      <a:xfrm>
                        <a:off x="2292120" y="4390920"/>
                        <a:ext cx="297360" cy="339840"/>
                        <a:chOff x="2292120" y="4390920"/>
                        <a:chExt cx="297360" cy="339840"/>
                      </a:xfrm>
                    </p:grpSpPr>
                    <p:grpSp>
                      <p:nvGrpSpPr>
                        <p:cNvPr id="366" name=""/>
                        <p:cNvGrpSpPr/>
                        <p:nvPr/>
                      </p:nvGrpSpPr>
                      <p:grpSpPr>
                        <a:xfrm>
                          <a:off x="2370600" y="4413240"/>
                          <a:ext cx="218880" cy="276120"/>
                          <a:chOff x="2370600" y="4413240"/>
                          <a:chExt cx="218880" cy="276120"/>
                        </a:xfrm>
                      </p:grpSpPr>
                      <p:grpSp>
                        <p:nvGrpSpPr>
                          <p:cNvPr id="367" name=""/>
                          <p:cNvGrpSpPr/>
                          <p:nvPr/>
                        </p:nvGrpSpPr>
                        <p:grpSpPr>
                          <a:xfrm>
                            <a:off x="2394360" y="4413240"/>
                            <a:ext cx="195120" cy="276120"/>
                            <a:chOff x="2394360" y="4413240"/>
                            <a:chExt cx="195120" cy="276120"/>
                          </a:xfrm>
                        </p:grpSpPr>
                        <p:sp>
                          <p:nvSpPr>
                            <p:cNvPr id="368" name=""/>
                            <p:cNvSpPr/>
                            <p:nvPr/>
                          </p:nvSpPr>
                          <p:spPr>
                            <a:xfrm>
                              <a:off x="2500560" y="4581360"/>
                              <a:ext cx="88920" cy="651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" bIns="-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69" name=""/>
                            <p:cNvSpPr/>
                            <p:nvPr/>
                          </p:nvSpPr>
                          <p:spPr>
                            <a:xfrm>
                              <a:off x="2421000" y="4600440"/>
                              <a:ext cx="115560" cy="889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0" name=""/>
                            <p:cNvSpPr/>
                            <p:nvPr/>
                          </p:nvSpPr>
                          <p:spPr>
                            <a:xfrm>
                              <a:off x="2472840" y="4475160"/>
                              <a:ext cx="88920" cy="684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1" name=""/>
                            <p:cNvSpPr/>
                            <p:nvPr/>
                          </p:nvSpPr>
                          <p:spPr>
                            <a:xfrm>
                              <a:off x="2394360" y="4413240"/>
                              <a:ext cx="114480" cy="8748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5480" bIns="15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2" name=""/>
                            <p:cNvSpPr/>
                            <p:nvPr/>
                          </p:nvSpPr>
                          <p:spPr>
                            <a:xfrm>
                              <a:off x="2475360" y="4473720"/>
                              <a:ext cx="78480" cy="16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73" name=""/>
                          <p:cNvSpPr/>
                          <p:nvPr/>
                        </p:nvSpPr>
                        <p:spPr>
                          <a:xfrm>
                            <a:off x="2370600" y="4497480"/>
                            <a:ext cx="167400" cy="1285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4" name=""/>
                          <p:cNvSpPr/>
                          <p:nvPr/>
                        </p:nvSpPr>
                        <p:spPr>
                          <a:xfrm>
                            <a:off x="2370600" y="4581360"/>
                            <a:ext cx="113040" cy="87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5" name=""/>
                          <p:cNvSpPr/>
                          <p:nvPr/>
                        </p:nvSpPr>
                        <p:spPr>
                          <a:xfrm>
                            <a:off x="2407320" y="4454640"/>
                            <a:ext cx="8280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76" name=""/>
                        <p:cNvSpPr/>
                        <p:nvPr/>
                      </p:nvSpPr>
                      <p:spPr>
                        <a:xfrm>
                          <a:off x="2370600" y="4664160"/>
                          <a:ext cx="87840" cy="666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7" name=""/>
                        <p:cNvSpPr/>
                        <p:nvPr/>
                      </p:nvSpPr>
                      <p:spPr>
                        <a:xfrm>
                          <a:off x="2292120" y="4390920"/>
                          <a:ext cx="114480" cy="8892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8" name=""/>
                        <p:cNvSpPr/>
                        <p:nvPr/>
                      </p:nvSpPr>
                      <p:spPr>
                        <a:xfrm>
                          <a:off x="2399400" y="4641840"/>
                          <a:ext cx="579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79" name=""/>
                      <p:cNvSpPr/>
                      <p:nvPr/>
                    </p:nvSpPr>
                    <p:spPr>
                      <a:xfrm>
                        <a:off x="2387880" y="4435560"/>
                        <a:ext cx="3204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80" name=""/>
                    <p:cNvGrpSpPr/>
                    <p:nvPr/>
                  </p:nvGrpSpPr>
                  <p:grpSpPr>
                    <a:xfrm>
                      <a:off x="2187000" y="4330800"/>
                      <a:ext cx="271080" cy="420480"/>
                      <a:chOff x="2187000" y="4330800"/>
                      <a:chExt cx="271080" cy="420480"/>
                    </a:xfrm>
                  </p:grpSpPr>
                  <p:sp>
                    <p:nvSpPr>
                      <p:cNvPr id="381" name=""/>
                      <p:cNvSpPr/>
                      <p:nvPr/>
                    </p:nvSpPr>
                    <p:spPr>
                      <a:xfrm>
                        <a:off x="2212200" y="4581360"/>
                        <a:ext cx="219600" cy="1699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2" name=""/>
                      <p:cNvSpPr/>
                      <p:nvPr/>
                    </p:nvSpPr>
                    <p:spPr>
                      <a:xfrm>
                        <a:off x="2236320" y="4454640"/>
                        <a:ext cx="221760" cy="1713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3" name=""/>
                      <p:cNvSpPr/>
                      <p:nvPr/>
                    </p:nvSpPr>
                    <p:spPr>
                      <a:xfrm>
                        <a:off x="2187000" y="4330800"/>
                        <a:ext cx="166320" cy="1299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4" name=""/>
                      <p:cNvSpPr/>
                      <p:nvPr/>
                    </p:nvSpPr>
                    <p:spPr>
                      <a:xfrm>
                        <a:off x="2291760" y="4413240"/>
                        <a:ext cx="87480" cy="666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5" name=""/>
                      <p:cNvSpPr/>
                      <p:nvPr/>
                    </p:nvSpPr>
                    <p:spPr>
                      <a:xfrm>
                        <a:off x="2239920" y="4395600"/>
                        <a:ext cx="14652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6" name=""/>
                      <p:cNvSpPr/>
                      <p:nvPr/>
                    </p:nvSpPr>
                    <p:spPr>
                      <a:xfrm>
                        <a:off x="2310480" y="4611600"/>
                        <a:ext cx="95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2187000" y="4705200"/>
                      <a:ext cx="11664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2267640" y="4692600"/>
                      <a:ext cx="6012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89" name=""/>
                  <p:cNvSpPr/>
                  <p:nvPr/>
                </p:nvSpPr>
                <p:spPr>
                  <a:xfrm>
                    <a:off x="1931400" y="4800600"/>
                    <a:ext cx="139680" cy="108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2053800" y="4800600"/>
                    <a:ext cx="11772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2126520" y="4767120"/>
                    <a:ext cx="11448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2021400" y="4746600"/>
                    <a:ext cx="24588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3" name=""/>
                <p:cNvGrpSpPr/>
                <p:nvPr/>
              </p:nvGrpSpPr>
              <p:grpSpPr>
                <a:xfrm>
                  <a:off x="990360" y="4334040"/>
                  <a:ext cx="392760" cy="398160"/>
                  <a:chOff x="990360" y="4334040"/>
                  <a:chExt cx="392760" cy="398160"/>
                </a:xfrm>
              </p:grpSpPr>
              <p:grpSp>
                <p:nvGrpSpPr>
                  <p:cNvPr id="394" name=""/>
                  <p:cNvGrpSpPr/>
                  <p:nvPr/>
                </p:nvGrpSpPr>
                <p:grpSpPr>
                  <a:xfrm>
                    <a:off x="990360" y="4390920"/>
                    <a:ext cx="208440" cy="235080"/>
                    <a:chOff x="990360" y="4390920"/>
                    <a:chExt cx="208440" cy="235080"/>
                  </a:xfrm>
                </p:grpSpPr>
                <p:sp>
                  <p:nvSpPr>
                    <p:cNvPr id="395" name=""/>
                    <p:cNvSpPr/>
                    <p:nvPr/>
                  </p:nvSpPr>
                  <p:spPr>
                    <a:xfrm>
                      <a:off x="990360" y="4475160"/>
                      <a:ext cx="85320" cy="68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1007280" y="4538520"/>
                      <a:ext cx="11520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1031400" y="4390920"/>
                      <a:ext cx="16740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8" name=""/>
                    <p:cNvSpPr/>
                    <p:nvPr/>
                  </p:nvSpPr>
                  <p:spPr>
                    <a:xfrm>
                      <a:off x="1018800" y="4481640"/>
                      <a:ext cx="5976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9" name=""/>
                  <p:cNvGrpSpPr/>
                  <p:nvPr/>
                </p:nvGrpSpPr>
                <p:grpSpPr>
                  <a:xfrm>
                    <a:off x="1059480" y="4334040"/>
                    <a:ext cx="323640" cy="398160"/>
                    <a:chOff x="1059480" y="4334040"/>
                    <a:chExt cx="323640" cy="398160"/>
                  </a:xfrm>
                </p:grpSpPr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1163520" y="4351320"/>
                      <a:ext cx="219600" cy="169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1" name=""/>
                    <p:cNvSpPr/>
                    <p:nvPr/>
                  </p:nvSpPr>
                  <p:spPr>
                    <a:xfrm>
                      <a:off x="1059480" y="4475160"/>
                      <a:ext cx="11664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1084680" y="4538520"/>
                      <a:ext cx="16956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1139040" y="4600440"/>
                      <a:ext cx="162720" cy="131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4" name=""/>
                    <p:cNvSpPr/>
                    <p:nvPr/>
                  </p:nvSpPr>
                  <p:spPr>
                    <a:xfrm>
                      <a:off x="1149480" y="4437000"/>
                      <a:ext cx="150120" cy="11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1282320" y="4334040"/>
                      <a:ext cx="86760" cy="64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1197000" y="4410000"/>
                      <a:ext cx="1062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7" name=""/>
                    <p:cNvSpPr/>
                    <p:nvPr/>
                  </p:nvSpPr>
                  <p:spPr>
                    <a:xfrm>
                      <a:off x="1091880" y="4518000"/>
                      <a:ext cx="12132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08" name=""/>
                  <p:cNvSpPr/>
                  <p:nvPr/>
                </p:nvSpPr>
                <p:spPr>
                  <a:xfrm>
                    <a:off x="1272240" y="4373640"/>
                    <a:ext cx="644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9" name=""/>
                <p:cNvGrpSpPr/>
                <p:nvPr/>
              </p:nvGrpSpPr>
              <p:grpSpPr>
                <a:xfrm>
                  <a:off x="1189080" y="4267080"/>
                  <a:ext cx="1163880" cy="673200"/>
                  <a:chOff x="1189080" y="4267080"/>
                  <a:chExt cx="1163880" cy="67320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>
                    <a:off x="1554480" y="4289400"/>
                    <a:ext cx="27468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1792440" y="4267080"/>
                    <a:ext cx="21960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2001600" y="4454640"/>
                    <a:ext cx="351360" cy="277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1319400" y="4581360"/>
                    <a:ext cx="404640" cy="317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1899000" y="4621320"/>
                    <a:ext cx="297000" cy="233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1215720" y="4645080"/>
                    <a:ext cx="21816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1189080" y="4497480"/>
                    <a:ext cx="21960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1294200" y="4330800"/>
                    <a:ext cx="351360" cy="274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1609560" y="4664160"/>
                    <a:ext cx="351360" cy="276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2053800" y="4351320"/>
                    <a:ext cx="27396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1976400" y="4267080"/>
                    <a:ext cx="247320" cy="192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1281600" y="4317840"/>
                    <a:ext cx="100800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22" name=""/>
              <p:cNvSpPr/>
              <p:nvPr/>
            </p:nvSpPr>
            <p:spPr>
              <a:xfrm>
                <a:off x="1384920" y="4535640"/>
                <a:ext cx="545760" cy="27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6095880" y="4267080"/>
              <a:ext cx="1750680" cy="673200"/>
              <a:chOff x="6095880" y="4267080"/>
              <a:chExt cx="1750680" cy="673200"/>
            </a:xfrm>
          </p:grpSpPr>
          <p:grpSp>
            <p:nvGrpSpPr>
              <p:cNvPr id="424" name=""/>
              <p:cNvGrpSpPr/>
              <p:nvPr/>
            </p:nvGrpSpPr>
            <p:grpSpPr>
              <a:xfrm>
                <a:off x="6095880" y="4267080"/>
                <a:ext cx="1750680" cy="673200"/>
                <a:chOff x="6095880" y="4267080"/>
                <a:chExt cx="1750680" cy="673200"/>
              </a:xfrm>
            </p:grpSpPr>
            <p:grpSp>
              <p:nvGrpSpPr>
                <p:cNvPr id="425" name=""/>
                <p:cNvGrpSpPr/>
                <p:nvPr/>
              </p:nvGrpSpPr>
              <p:grpSpPr>
                <a:xfrm>
                  <a:off x="7126200" y="4330800"/>
                  <a:ext cx="720360" cy="577800"/>
                  <a:chOff x="7126200" y="4330800"/>
                  <a:chExt cx="720360" cy="577800"/>
                </a:xfrm>
              </p:grpSpPr>
              <p:grpSp>
                <p:nvGrpSpPr>
                  <p:cNvPr id="426" name=""/>
                  <p:cNvGrpSpPr/>
                  <p:nvPr/>
                </p:nvGrpSpPr>
                <p:grpSpPr>
                  <a:xfrm>
                    <a:off x="7405920" y="4330800"/>
                    <a:ext cx="440640" cy="461880"/>
                    <a:chOff x="7405920" y="4330800"/>
                    <a:chExt cx="440640" cy="461880"/>
                  </a:xfrm>
                </p:grpSpPr>
                <p:grpSp>
                  <p:nvGrpSpPr>
                    <p:cNvPr id="427" name=""/>
                    <p:cNvGrpSpPr/>
                    <p:nvPr/>
                  </p:nvGrpSpPr>
                  <p:grpSpPr>
                    <a:xfrm>
                      <a:off x="7520760" y="4390920"/>
                      <a:ext cx="325800" cy="339840"/>
                      <a:chOff x="7520760" y="4390920"/>
                      <a:chExt cx="325800" cy="339840"/>
                    </a:xfrm>
                  </p:grpSpPr>
                  <p:grpSp>
                    <p:nvGrpSpPr>
                      <p:cNvPr id="428" name=""/>
                      <p:cNvGrpSpPr/>
                      <p:nvPr/>
                    </p:nvGrpSpPr>
                    <p:grpSpPr>
                      <a:xfrm>
                        <a:off x="7520760" y="4390920"/>
                        <a:ext cx="325800" cy="339840"/>
                        <a:chOff x="7520760" y="4390920"/>
                        <a:chExt cx="325800" cy="339840"/>
                      </a:xfrm>
                    </p:grpSpPr>
                    <p:grpSp>
                      <p:nvGrpSpPr>
                        <p:cNvPr id="429" name=""/>
                        <p:cNvGrpSpPr/>
                        <p:nvPr/>
                      </p:nvGrpSpPr>
                      <p:grpSpPr>
                        <a:xfrm>
                          <a:off x="7606800" y="4413240"/>
                          <a:ext cx="239760" cy="276120"/>
                          <a:chOff x="7606800" y="4413240"/>
                          <a:chExt cx="239760" cy="276120"/>
                        </a:xfrm>
                      </p:grpSpPr>
                      <p:grpSp>
                        <p:nvGrpSpPr>
                          <p:cNvPr id="430" name=""/>
                          <p:cNvGrpSpPr/>
                          <p:nvPr/>
                        </p:nvGrpSpPr>
                        <p:grpSpPr>
                          <a:xfrm>
                            <a:off x="7633080" y="4413240"/>
                            <a:ext cx="213480" cy="276120"/>
                            <a:chOff x="7633080" y="4413240"/>
                            <a:chExt cx="213480" cy="276120"/>
                          </a:xfrm>
                        </p:grpSpPr>
                        <p:sp>
                          <p:nvSpPr>
                            <p:cNvPr id="431" name=""/>
                            <p:cNvSpPr/>
                            <p:nvPr/>
                          </p:nvSpPr>
                          <p:spPr>
                            <a:xfrm>
                              <a:off x="7749360" y="4581360"/>
                              <a:ext cx="97200" cy="651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" bIns="-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2" name=""/>
                            <p:cNvSpPr/>
                            <p:nvPr/>
                          </p:nvSpPr>
                          <p:spPr>
                            <a:xfrm>
                              <a:off x="7662240" y="4600440"/>
                              <a:ext cx="126360" cy="889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3" name=""/>
                            <p:cNvSpPr/>
                            <p:nvPr/>
                          </p:nvSpPr>
                          <p:spPr>
                            <a:xfrm>
                              <a:off x="7718760" y="4475160"/>
                              <a:ext cx="97200" cy="684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4" name=""/>
                            <p:cNvSpPr/>
                            <p:nvPr/>
                          </p:nvSpPr>
                          <p:spPr>
                            <a:xfrm>
                              <a:off x="7633080" y="4413240"/>
                              <a:ext cx="125280" cy="8748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5480" bIns="15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5" name=""/>
                            <p:cNvSpPr/>
                            <p:nvPr/>
                          </p:nvSpPr>
                          <p:spPr>
                            <a:xfrm>
                              <a:off x="7721640" y="4473720"/>
                              <a:ext cx="85680" cy="16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36" name=""/>
                          <p:cNvSpPr/>
                          <p:nvPr/>
                        </p:nvSpPr>
                        <p:spPr>
                          <a:xfrm>
                            <a:off x="7606800" y="4497480"/>
                            <a:ext cx="183240" cy="1285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37" name=""/>
                          <p:cNvSpPr/>
                          <p:nvPr/>
                        </p:nvSpPr>
                        <p:spPr>
                          <a:xfrm>
                            <a:off x="7606800" y="4581360"/>
                            <a:ext cx="123840" cy="87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38" name=""/>
                          <p:cNvSpPr/>
                          <p:nvPr/>
                        </p:nvSpPr>
                        <p:spPr>
                          <a:xfrm>
                            <a:off x="7647120" y="4454640"/>
                            <a:ext cx="9072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439" name=""/>
                        <p:cNvSpPr/>
                        <p:nvPr/>
                      </p:nvSpPr>
                      <p:spPr>
                        <a:xfrm>
                          <a:off x="7606800" y="4664160"/>
                          <a:ext cx="96120" cy="666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0" name=""/>
                        <p:cNvSpPr/>
                        <p:nvPr/>
                      </p:nvSpPr>
                      <p:spPr>
                        <a:xfrm>
                          <a:off x="7520760" y="4390920"/>
                          <a:ext cx="125280" cy="8892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1" name=""/>
                        <p:cNvSpPr/>
                        <p:nvPr/>
                      </p:nvSpPr>
                      <p:spPr>
                        <a:xfrm>
                          <a:off x="7638120" y="4641840"/>
                          <a:ext cx="633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42" name=""/>
                      <p:cNvSpPr/>
                      <p:nvPr/>
                    </p:nvSpPr>
                    <p:spPr>
                      <a:xfrm>
                        <a:off x="7625520" y="4435560"/>
                        <a:ext cx="3528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43" name=""/>
                    <p:cNvGrpSpPr/>
                    <p:nvPr/>
                  </p:nvGrpSpPr>
                  <p:grpSpPr>
                    <a:xfrm>
                      <a:off x="7405920" y="4330800"/>
                      <a:ext cx="297000" cy="420480"/>
                      <a:chOff x="7405920" y="4330800"/>
                      <a:chExt cx="297000" cy="420480"/>
                    </a:xfrm>
                  </p:grpSpPr>
                  <p:sp>
                    <p:nvSpPr>
                      <p:cNvPr id="444" name=""/>
                      <p:cNvSpPr/>
                      <p:nvPr/>
                    </p:nvSpPr>
                    <p:spPr>
                      <a:xfrm>
                        <a:off x="7433640" y="4581360"/>
                        <a:ext cx="240480" cy="1699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5" name=""/>
                      <p:cNvSpPr/>
                      <p:nvPr/>
                    </p:nvSpPr>
                    <p:spPr>
                      <a:xfrm>
                        <a:off x="7459920" y="4454640"/>
                        <a:ext cx="243000" cy="1713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6" name=""/>
                      <p:cNvSpPr/>
                      <p:nvPr/>
                    </p:nvSpPr>
                    <p:spPr>
                      <a:xfrm>
                        <a:off x="7405920" y="4330800"/>
                        <a:ext cx="182160" cy="1299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7" name=""/>
                      <p:cNvSpPr/>
                      <p:nvPr/>
                    </p:nvSpPr>
                    <p:spPr>
                      <a:xfrm>
                        <a:off x="7520760" y="4413240"/>
                        <a:ext cx="96120" cy="666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8" name=""/>
                      <p:cNvSpPr/>
                      <p:nvPr/>
                    </p:nvSpPr>
                    <p:spPr>
                      <a:xfrm>
                        <a:off x="7463880" y="4395600"/>
                        <a:ext cx="16056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9" name=""/>
                      <p:cNvSpPr/>
                      <p:nvPr/>
                    </p:nvSpPr>
                    <p:spPr>
                      <a:xfrm>
                        <a:off x="7541280" y="4611600"/>
                        <a:ext cx="104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50" name=""/>
                    <p:cNvSpPr/>
                    <p:nvPr/>
                  </p:nvSpPr>
                  <p:spPr>
                    <a:xfrm>
                      <a:off x="7405920" y="4705200"/>
                      <a:ext cx="12744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1" name=""/>
                    <p:cNvSpPr/>
                    <p:nvPr/>
                  </p:nvSpPr>
                  <p:spPr>
                    <a:xfrm>
                      <a:off x="7494120" y="4692600"/>
                      <a:ext cx="6588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52" name=""/>
                  <p:cNvSpPr/>
                  <p:nvPr/>
                </p:nvSpPr>
                <p:spPr>
                  <a:xfrm>
                    <a:off x="7126200" y="4800600"/>
                    <a:ext cx="153000" cy="108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7260480" y="4800600"/>
                    <a:ext cx="12888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7340040" y="4767120"/>
                    <a:ext cx="12528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7224840" y="4746600"/>
                    <a:ext cx="26928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6" name=""/>
                <p:cNvGrpSpPr/>
                <p:nvPr/>
              </p:nvGrpSpPr>
              <p:grpSpPr>
                <a:xfrm>
                  <a:off x="6095880" y="4334040"/>
                  <a:ext cx="429480" cy="398160"/>
                  <a:chOff x="6095880" y="4334040"/>
                  <a:chExt cx="429480" cy="398160"/>
                </a:xfrm>
              </p:grpSpPr>
              <p:grpSp>
                <p:nvGrpSpPr>
                  <p:cNvPr id="457" name=""/>
                  <p:cNvGrpSpPr/>
                  <p:nvPr/>
                </p:nvGrpSpPr>
                <p:grpSpPr>
                  <a:xfrm>
                    <a:off x="6095880" y="4390920"/>
                    <a:ext cx="228600" cy="235080"/>
                    <a:chOff x="6095880" y="4390920"/>
                    <a:chExt cx="228600" cy="235080"/>
                  </a:xfrm>
                </p:grpSpPr>
                <p:sp>
                  <p:nvSpPr>
                    <p:cNvPr id="458" name=""/>
                    <p:cNvSpPr/>
                    <p:nvPr/>
                  </p:nvSpPr>
                  <p:spPr>
                    <a:xfrm>
                      <a:off x="6095880" y="4475160"/>
                      <a:ext cx="93240" cy="68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>
                      <a:off x="6114600" y="4538520"/>
                      <a:ext cx="12636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0" name=""/>
                    <p:cNvSpPr/>
                    <p:nvPr/>
                  </p:nvSpPr>
                  <p:spPr>
                    <a:xfrm>
                      <a:off x="6140880" y="4390920"/>
                      <a:ext cx="18360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1" name=""/>
                    <p:cNvSpPr/>
                    <p:nvPr/>
                  </p:nvSpPr>
                  <p:spPr>
                    <a:xfrm>
                      <a:off x="6127200" y="4481640"/>
                      <a:ext cx="6552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62" name=""/>
                  <p:cNvGrpSpPr/>
                  <p:nvPr/>
                </p:nvGrpSpPr>
                <p:grpSpPr>
                  <a:xfrm>
                    <a:off x="6171480" y="4334040"/>
                    <a:ext cx="353880" cy="398160"/>
                    <a:chOff x="6171480" y="4334040"/>
                    <a:chExt cx="353880" cy="398160"/>
                  </a:xfrm>
                </p:grpSpPr>
                <p:sp>
                  <p:nvSpPr>
                    <p:cNvPr id="463" name=""/>
                    <p:cNvSpPr/>
                    <p:nvPr/>
                  </p:nvSpPr>
                  <p:spPr>
                    <a:xfrm>
                      <a:off x="6285240" y="4351320"/>
                      <a:ext cx="240120" cy="169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4" name=""/>
                    <p:cNvSpPr/>
                    <p:nvPr/>
                  </p:nvSpPr>
                  <p:spPr>
                    <a:xfrm>
                      <a:off x="6171480" y="4475160"/>
                      <a:ext cx="12780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5" name=""/>
                    <p:cNvSpPr/>
                    <p:nvPr/>
                  </p:nvSpPr>
                  <p:spPr>
                    <a:xfrm>
                      <a:off x="6199200" y="4538520"/>
                      <a:ext cx="18576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6" name=""/>
                    <p:cNvSpPr/>
                    <p:nvPr/>
                  </p:nvSpPr>
                  <p:spPr>
                    <a:xfrm>
                      <a:off x="6258600" y="4600440"/>
                      <a:ext cx="178200" cy="131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7" name=""/>
                    <p:cNvSpPr/>
                    <p:nvPr/>
                  </p:nvSpPr>
                  <p:spPr>
                    <a:xfrm>
                      <a:off x="6270120" y="4437000"/>
                      <a:ext cx="164160" cy="11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8" name=""/>
                    <p:cNvSpPr/>
                    <p:nvPr/>
                  </p:nvSpPr>
                  <p:spPr>
                    <a:xfrm>
                      <a:off x="6415560" y="4334040"/>
                      <a:ext cx="94680" cy="64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9" name=""/>
                    <p:cNvSpPr/>
                    <p:nvPr/>
                  </p:nvSpPr>
                  <p:spPr>
                    <a:xfrm>
                      <a:off x="6321960" y="4410000"/>
                      <a:ext cx="11628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0" name=""/>
                    <p:cNvSpPr/>
                    <p:nvPr/>
                  </p:nvSpPr>
                  <p:spPr>
                    <a:xfrm>
                      <a:off x="6206760" y="4518000"/>
                      <a:ext cx="13248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71" name=""/>
                  <p:cNvSpPr/>
                  <p:nvPr/>
                </p:nvSpPr>
                <p:spPr>
                  <a:xfrm>
                    <a:off x="6404400" y="4373640"/>
                    <a:ext cx="7056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2" name=""/>
                <p:cNvGrpSpPr/>
                <p:nvPr/>
              </p:nvGrpSpPr>
              <p:grpSpPr>
                <a:xfrm>
                  <a:off x="6313320" y="4267080"/>
                  <a:ext cx="1274760" cy="673200"/>
                  <a:chOff x="6313320" y="4267080"/>
                  <a:chExt cx="1274760" cy="67320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>
                    <a:off x="6713280" y="4289400"/>
                    <a:ext cx="30096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6974280" y="4267080"/>
                    <a:ext cx="24048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7203240" y="4454640"/>
                    <a:ext cx="384840" cy="277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6456240" y="4581360"/>
                    <a:ext cx="443160" cy="317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7090560" y="4621320"/>
                    <a:ext cx="325080" cy="233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6342480" y="4645080"/>
                    <a:ext cx="23904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6313320" y="4497480"/>
                    <a:ext cx="24048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6428160" y="4330800"/>
                    <a:ext cx="384840" cy="274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6774120" y="4664160"/>
                    <a:ext cx="384840" cy="276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7260480" y="4351320"/>
                    <a:ext cx="29988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7175520" y="4267080"/>
                    <a:ext cx="270720" cy="192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6414480" y="4317840"/>
                    <a:ext cx="110376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85" name=""/>
              <p:cNvSpPr/>
              <p:nvPr/>
            </p:nvSpPr>
            <p:spPr>
              <a:xfrm>
                <a:off x="6529320" y="4535640"/>
                <a:ext cx="545760" cy="27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>
              <a:off x="3581280" y="4343400"/>
              <a:ext cx="1600200" cy="68580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C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124080" y="464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190840" y="4676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733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5029200" y="1219320"/>
            <a:ext cx="3733920" cy="2133360"/>
            <a:chOff x="5029200" y="1219320"/>
            <a:chExt cx="3733920" cy="2133360"/>
          </a:xfrm>
        </p:grpSpPr>
        <p:grpSp>
          <p:nvGrpSpPr>
            <p:cNvPr id="491" name=""/>
            <p:cNvGrpSpPr/>
            <p:nvPr/>
          </p:nvGrpSpPr>
          <p:grpSpPr>
            <a:xfrm>
              <a:off x="5715000" y="1219320"/>
              <a:ext cx="2359080" cy="1217520"/>
              <a:chOff x="5715000" y="1219320"/>
              <a:chExt cx="2359080" cy="1217520"/>
            </a:xfrm>
          </p:grpSpPr>
          <p:grpSp>
            <p:nvGrpSpPr>
              <p:cNvPr id="492" name=""/>
              <p:cNvGrpSpPr/>
              <p:nvPr/>
            </p:nvGrpSpPr>
            <p:grpSpPr>
              <a:xfrm>
                <a:off x="5715000" y="1219320"/>
                <a:ext cx="2359080" cy="1217520"/>
                <a:chOff x="5715000" y="1219320"/>
                <a:chExt cx="2359080" cy="1217520"/>
              </a:xfrm>
            </p:grpSpPr>
            <p:grpSp>
              <p:nvGrpSpPr>
                <p:cNvPr id="493" name=""/>
                <p:cNvGrpSpPr/>
                <p:nvPr/>
              </p:nvGrpSpPr>
              <p:grpSpPr>
                <a:xfrm>
                  <a:off x="7103880" y="1334520"/>
                  <a:ext cx="970200" cy="1044720"/>
                  <a:chOff x="7103880" y="1334520"/>
                  <a:chExt cx="970200" cy="1044720"/>
                </a:xfrm>
              </p:grpSpPr>
              <p:grpSp>
                <p:nvGrpSpPr>
                  <p:cNvPr id="494" name=""/>
                  <p:cNvGrpSpPr/>
                  <p:nvPr/>
                </p:nvGrpSpPr>
                <p:grpSpPr>
                  <a:xfrm>
                    <a:off x="7480800" y="1334520"/>
                    <a:ext cx="593280" cy="834480"/>
                    <a:chOff x="7480800" y="1334520"/>
                    <a:chExt cx="593280" cy="834480"/>
                  </a:xfrm>
                </p:grpSpPr>
                <p:grpSp>
                  <p:nvGrpSpPr>
                    <p:cNvPr id="495" name=""/>
                    <p:cNvGrpSpPr/>
                    <p:nvPr/>
                  </p:nvGrpSpPr>
                  <p:grpSpPr>
                    <a:xfrm>
                      <a:off x="7635600" y="1442880"/>
                      <a:ext cx="438480" cy="613080"/>
                      <a:chOff x="7635600" y="1442880"/>
                      <a:chExt cx="438480" cy="613080"/>
                    </a:xfrm>
                  </p:grpSpPr>
                  <p:grpSp>
                    <p:nvGrpSpPr>
                      <p:cNvPr id="496" name=""/>
                      <p:cNvGrpSpPr/>
                      <p:nvPr/>
                    </p:nvGrpSpPr>
                    <p:grpSpPr>
                      <a:xfrm>
                        <a:off x="7635600" y="1442880"/>
                        <a:ext cx="438480" cy="613080"/>
                        <a:chOff x="7635600" y="1442880"/>
                        <a:chExt cx="438480" cy="613080"/>
                      </a:xfrm>
                    </p:grpSpPr>
                    <p:grpSp>
                      <p:nvGrpSpPr>
                        <p:cNvPr id="497" name=""/>
                        <p:cNvGrpSpPr/>
                        <p:nvPr/>
                      </p:nvGrpSpPr>
                      <p:grpSpPr>
                        <a:xfrm>
                          <a:off x="7751160" y="1482840"/>
                          <a:ext cx="322920" cy="497520"/>
                          <a:chOff x="7751160" y="1482840"/>
                          <a:chExt cx="322920" cy="497520"/>
                        </a:xfrm>
                      </p:grpSpPr>
                      <p:grpSp>
                        <p:nvGrpSpPr>
                          <p:cNvPr id="498" name=""/>
                          <p:cNvGrpSpPr/>
                          <p:nvPr/>
                        </p:nvGrpSpPr>
                        <p:grpSpPr>
                          <a:xfrm>
                            <a:off x="7786440" y="1482840"/>
                            <a:ext cx="287640" cy="497520"/>
                            <a:chOff x="7786440" y="1482840"/>
                            <a:chExt cx="287640" cy="497520"/>
                          </a:xfrm>
                        </p:grpSpPr>
                        <p:sp>
                          <p:nvSpPr>
                            <p:cNvPr id="499" name=""/>
                            <p:cNvSpPr/>
                            <p:nvPr/>
                          </p:nvSpPr>
                          <p:spPr>
                            <a:xfrm>
                              <a:off x="7943040" y="1785600"/>
                              <a:ext cx="131040" cy="1173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36720" bIns="367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0" name=""/>
                            <p:cNvSpPr/>
                            <p:nvPr/>
                          </p:nvSpPr>
                          <p:spPr>
                            <a:xfrm>
                              <a:off x="7825680" y="1820160"/>
                              <a:ext cx="169920" cy="1602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1" name=""/>
                            <p:cNvSpPr/>
                            <p:nvPr/>
                          </p:nvSpPr>
                          <p:spPr>
                            <a:xfrm>
                              <a:off x="7902000" y="1594080"/>
                              <a:ext cx="131040" cy="1231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0320" bIns="403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2" name=""/>
                            <p:cNvSpPr/>
                            <p:nvPr/>
                          </p:nvSpPr>
                          <p:spPr>
                            <a:xfrm>
                              <a:off x="7786440" y="1482840"/>
                              <a:ext cx="168480" cy="1573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3" name=""/>
                            <p:cNvSpPr/>
                            <p:nvPr/>
                          </p:nvSpPr>
                          <p:spPr>
                            <a:xfrm>
                              <a:off x="7905600" y="1591560"/>
                              <a:ext cx="115560" cy="288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504" name=""/>
                          <p:cNvSpPr/>
                          <p:nvPr/>
                        </p:nvSpPr>
                        <p:spPr>
                          <a:xfrm>
                            <a:off x="7751160" y="1634400"/>
                            <a:ext cx="246600" cy="231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05" name=""/>
                          <p:cNvSpPr/>
                          <p:nvPr/>
                        </p:nvSpPr>
                        <p:spPr>
                          <a:xfrm>
                            <a:off x="7751160" y="1785960"/>
                            <a:ext cx="166680" cy="1576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06" name=""/>
                          <p:cNvSpPr/>
                          <p:nvPr/>
                        </p:nvSpPr>
                        <p:spPr>
                          <a:xfrm>
                            <a:off x="7805520" y="1557360"/>
                            <a:ext cx="122400" cy="311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507" name=""/>
                        <p:cNvSpPr/>
                        <p:nvPr/>
                      </p:nvSpPr>
                      <p:spPr>
                        <a:xfrm>
                          <a:off x="7751160" y="1936080"/>
                          <a:ext cx="129240" cy="11988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8520" bIns="385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8" name=""/>
                        <p:cNvSpPr/>
                        <p:nvPr/>
                      </p:nvSpPr>
                      <p:spPr>
                        <a:xfrm>
                          <a:off x="7635600" y="1442880"/>
                          <a:ext cx="168480" cy="1602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9" name=""/>
                        <p:cNvSpPr/>
                        <p:nvPr/>
                      </p:nvSpPr>
                      <p:spPr>
                        <a:xfrm>
                          <a:off x="7793640" y="1895760"/>
                          <a:ext cx="85320" cy="56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080" bIns="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510" name=""/>
                      <p:cNvSpPr/>
                      <p:nvPr/>
                    </p:nvSpPr>
                    <p:spPr>
                      <a:xfrm>
                        <a:off x="7776720" y="1523160"/>
                        <a:ext cx="47520" cy="9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11" name=""/>
                    <p:cNvGrpSpPr/>
                    <p:nvPr/>
                  </p:nvGrpSpPr>
                  <p:grpSpPr>
                    <a:xfrm>
                      <a:off x="7480800" y="1334520"/>
                      <a:ext cx="400320" cy="759240"/>
                      <a:chOff x="7480800" y="1334520"/>
                      <a:chExt cx="400320" cy="759240"/>
                    </a:xfrm>
                  </p:grpSpPr>
                  <p:sp>
                    <p:nvSpPr>
                      <p:cNvPr id="512" name=""/>
                      <p:cNvSpPr/>
                      <p:nvPr/>
                    </p:nvSpPr>
                    <p:spPr>
                      <a:xfrm>
                        <a:off x="7518240" y="1787040"/>
                        <a:ext cx="324000" cy="3067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3" name=""/>
                      <p:cNvSpPr/>
                      <p:nvPr/>
                    </p:nvSpPr>
                    <p:spPr>
                      <a:xfrm>
                        <a:off x="7553880" y="1558080"/>
                        <a:ext cx="327240" cy="309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4" name=""/>
                      <p:cNvSpPr/>
                      <p:nvPr/>
                    </p:nvSpPr>
                    <p:spPr>
                      <a:xfrm>
                        <a:off x="7480800" y="1334520"/>
                        <a:ext cx="245520" cy="2347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5" name=""/>
                      <p:cNvSpPr/>
                      <p:nvPr/>
                    </p:nvSpPr>
                    <p:spPr>
                      <a:xfrm>
                        <a:off x="7635600" y="1483200"/>
                        <a:ext cx="129240" cy="120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8160" bIns="38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6" name=""/>
                      <p:cNvSpPr/>
                      <p:nvPr/>
                    </p:nvSpPr>
                    <p:spPr>
                      <a:xfrm>
                        <a:off x="7559280" y="1451520"/>
                        <a:ext cx="216360" cy="27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7" name=""/>
                      <p:cNvSpPr/>
                      <p:nvPr/>
                    </p:nvSpPr>
                    <p:spPr>
                      <a:xfrm>
                        <a:off x="7663320" y="1841760"/>
                        <a:ext cx="141480" cy="74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720" bIns="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18" name=""/>
                    <p:cNvSpPr/>
                    <p:nvPr/>
                  </p:nvSpPr>
                  <p:spPr>
                    <a:xfrm>
                      <a:off x="7480800" y="2010960"/>
                      <a:ext cx="172080" cy="158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>
                      <a:off x="7599960" y="1988280"/>
                      <a:ext cx="88920" cy="9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4640" bIns="44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20" name=""/>
                  <p:cNvSpPr/>
                  <p:nvPr/>
                </p:nvSpPr>
                <p:spPr>
                  <a:xfrm>
                    <a:off x="7103880" y="2184120"/>
                    <a:ext cx="206280" cy="195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7284600" y="2184120"/>
                    <a:ext cx="173520" cy="158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7391880" y="2123640"/>
                    <a:ext cx="168840" cy="158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7236720" y="2086560"/>
                    <a:ext cx="36324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4" name=""/>
                <p:cNvGrpSpPr/>
                <p:nvPr/>
              </p:nvGrpSpPr>
              <p:grpSpPr>
                <a:xfrm>
                  <a:off x="5715000" y="1340280"/>
                  <a:ext cx="579240" cy="719280"/>
                  <a:chOff x="5715000" y="1340280"/>
                  <a:chExt cx="579240" cy="719280"/>
                </a:xfrm>
              </p:grpSpPr>
              <p:grpSp>
                <p:nvGrpSpPr>
                  <p:cNvPr id="525" name=""/>
                  <p:cNvGrpSpPr/>
                  <p:nvPr/>
                </p:nvGrpSpPr>
                <p:grpSpPr>
                  <a:xfrm>
                    <a:off x="5715000" y="1442880"/>
                    <a:ext cx="308160" cy="424080"/>
                    <a:chOff x="5715000" y="1442880"/>
                    <a:chExt cx="308160" cy="424080"/>
                  </a:xfrm>
                </p:grpSpPr>
                <p:sp>
                  <p:nvSpPr>
                    <p:cNvPr id="526" name=""/>
                    <p:cNvSpPr/>
                    <p:nvPr/>
                  </p:nvSpPr>
                  <p:spPr>
                    <a:xfrm>
                      <a:off x="5715000" y="1594800"/>
                      <a:ext cx="126000" cy="123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680" bIns="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>
                      <a:off x="5740200" y="1709280"/>
                      <a:ext cx="170280" cy="1576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>
                      <a:off x="5775840" y="1442880"/>
                      <a:ext cx="247320" cy="235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>
                      <a:off x="5757480" y="1606680"/>
                      <a:ext cx="88200" cy="13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30" name=""/>
                  <p:cNvGrpSpPr/>
                  <p:nvPr/>
                </p:nvGrpSpPr>
                <p:grpSpPr>
                  <a:xfrm>
                    <a:off x="5816880" y="1340280"/>
                    <a:ext cx="477360" cy="719280"/>
                    <a:chOff x="5816880" y="1340280"/>
                    <a:chExt cx="477360" cy="719280"/>
                  </a:xfrm>
                </p:grpSpPr>
                <p:sp>
                  <p:nvSpPr>
                    <p:cNvPr id="531" name=""/>
                    <p:cNvSpPr/>
                    <p:nvPr/>
                  </p:nvSpPr>
                  <p:spPr>
                    <a:xfrm>
                      <a:off x="5970240" y="1371240"/>
                      <a:ext cx="324000" cy="307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2" name=""/>
                    <p:cNvSpPr/>
                    <p:nvPr/>
                  </p:nvSpPr>
                  <p:spPr>
                    <a:xfrm>
                      <a:off x="5816880" y="1595160"/>
                      <a:ext cx="172440" cy="158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3" name=""/>
                    <p:cNvSpPr/>
                    <p:nvPr/>
                  </p:nvSpPr>
                  <p:spPr>
                    <a:xfrm>
                      <a:off x="5854320" y="1709640"/>
                      <a:ext cx="250560" cy="2354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4" name=""/>
                    <p:cNvSpPr/>
                    <p:nvPr/>
                  </p:nvSpPr>
                  <p:spPr>
                    <a:xfrm>
                      <a:off x="5934240" y="1821600"/>
                      <a:ext cx="240480" cy="2379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5" name=""/>
                    <p:cNvSpPr/>
                    <p:nvPr/>
                  </p:nvSpPr>
                  <p:spPr>
                    <a:xfrm>
                      <a:off x="5949720" y="1526040"/>
                      <a:ext cx="221400" cy="20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6" name=""/>
                    <p:cNvSpPr/>
                    <p:nvPr/>
                  </p:nvSpPr>
                  <p:spPr>
                    <a:xfrm>
                      <a:off x="6145920" y="1340280"/>
                      <a:ext cx="127800" cy="117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360" bIns="36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>
                      <a:off x="6019920" y="1477440"/>
                      <a:ext cx="1569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8" name=""/>
                    <p:cNvSpPr/>
                    <p:nvPr/>
                  </p:nvSpPr>
                  <p:spPr>
                    <a:xfrm>
                      <a:off x="5864760" y="1672560"/>
                      <a:ext cx="178920" cy="22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39" name=""/>
                  <p:cNvSpPr/>
                  <p:nvPr/>
                </p:nvSpPr>
                <p:spPr>
                  <a:xfrm>
                    <a:off x="6131160" y="1411560"/>
                    <a:ext cx="9540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0" name=""/>
                <p:cNvGrpSpPr/>
                <p:nvPr/>
              </p:nvGrpSpPr>
              <p:grpSpPr>
                <a:xfrm>
                  <a:off x="6008040" y="1219320"/>
                  <a:ext cx="1718280" cy="1217520"/>
                  <a:chOff x="6008040" y="1219320"/>
                  <a:chExt cx="1718280" cy="1217520"/>
                </a:xfrm>
              </p:grpSpPr>
              <p:sp>
                <p:nvSpPr>
                  <p:cNvPr id="541" name=""/>
                  <p:cNvSpPr/>
                  <p:nvPr/>
                </p:nvSpPr>
                <p:spPr>
                  <a:xfrm>
                    <a:off x="6547320" y="1259640"/>
                    <a:ext cx="405720" cy="381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6898680" y="1219320"/>
                    <a:ext cx="324000" cy="30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7207560" y="1558440"/>
                    <a:ext cx="518760" cy="501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6200640" y="1787760"/>
                    <a:ext cx="597240" cy="574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7056000" y="1860120"/>
                    <a:ext cx="438120" cy="421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6047280" y="1902960"/>
                    <a:ext cx="322200" cy="30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6008040" y="1635840"/>
                    <a:ext cx="324000" cy="30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6163200" y="1334520"/>
                    <a:ext cx="518760" cy="496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6629040" y="1937520"/>
                    <a:ext cx="518760" cy="499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7284600" y="1371600"/>
                    <a:ext cx="404280" cy="381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7170120" y="1219320"/>
                    <a:ext cx="365040" cy="347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>
                    <a:off x="6144480" y="1311120"/>
                    <a:ext cx="1487880" cy="9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53" name=""/>
              <p:cNvSpPr/>
              <p:nvPr/>
            </p:nvSpPr>
            <p:spPr>
              <a:xfrm>
                <a:off x="6298560" y="1705320"/>
                <a:ext cx="180720" cy="26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4" name=""/>
            <p:cNvSpPr/>
            <p:nvPr/>
          </p:nvSpPr>
          <p:spPr>
            <a:xfrm>
              <a:off x="6553080" y="1447920"/>
              <a:ext cx="914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SDN (mit IN) oder Inter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181480" y="182880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56" name=""/>
            <p:cNvGraphicFramePr/>
            <p:nvPr/>
          </p:nvGraphicFramePr>
          <p:xfrm>
            <a:off x="8305920" y="2971800"/>
            <a:ext cx="457200" cy="195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5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305920" y="2971800"/>
                      <a:ext cx="457200" cy="19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58" name=""/>
            <p:cNvGraphicFramePr/>
            <p:nvPr/>
          </p:nvGraphicFramePr>
          <p:xfrm>
            <a:off x="7315200" y="2819520"/>
            <a:ext cx="609480" cy="5331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5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315200" y="2819520"/>
                      <a:ext cx="609480" cy="53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0" name=""/>
            <p:cNvSpPr/>
            <p:nvPr/>
          </p:nvSpPr>
          <p:spPr>
            <a:xfrm>
              <a:off x="7315200" y="2286000"/>
              <a:ext cx="304920" cy="533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924680" y="1981080"/>
              <a:ext cx="533520" cy="914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029200" y="2057400"/>
              <a:ext cx="1523880" cy="4590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Administration des Diensteprofils (SCI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1068120" y="3733920"/>
            <a:ext cx="1434960" cy="533160"/>
            <a:chOff x="1068120" y="3733920"/>
            <a:chExt cx="1434960" cy="533160"/>
          </a:xfrm>
        </p:grpSpPr>
        <p:sp>
          <p:nvSpPr>
            <p:cNvPr id="564" name=""/>
            <p:cNvSpPr/>
            <p:nvPr/>
          </p:nvSpPr>
          <p:spPr>
            <a:xfrm>
              <a:off x="1371600" y="3962520"/>
              <a:ext cx="838080" cy="304560"/>
            </a:xfrm>
            <a:prstGeom prst="leftArrow">
              <a:avLst>
                <a:gd name="adj1" fmla="val 50000"/>
                <a:gd name="adj2" fmla="val 68794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068120" y="3733920"/>
              <a:ext cx="143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6249960" y="3809880"/>
            <a:ext cx="1434960" cy="457200"/>
            <a:chOff x="6249960" y="3809880"/>
            <a:chExt cx="1434960" cy="457200"/>
          </a:xfrm>
        </p:grpSpPr>
        <p:sp>
          <p:nvSpPr>
            <p:cNvPr id="567" name=""/>
            <p:cNvSpPr/>
            <p:nvPr/>
          </p:nvSpPr>
          <p:spPr>
            <a:xfrm>
              <a:off x="6249960" y="3809880"/>
              <a:ext cx="143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629400" y="3962520"/>
              <a:ext cx="837720" cy="304560"/>
            </a:xfrm>
            <a:prstGeom prst="leftArrow">
              <a:avLst>
                <a:gd name="adj1" fmla="val 50000"/>
                <a:gd name="adj2" fmla="val 6876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3581280" y="1457280"/>
            <a:ext cx="1619280" cy="3038400"/>
            <a:chOff x="3581280" y="1457280"/>
            <a:chExt cx="1619280" cy="3038400"/>
          </a:xfrm>
        </p:grpSpPr>
        <p:grpSp>
          <p:nvGrpSpPr>
            <p:cNvPr id="570" name=""/>
            <p:cNvGrpSpPr/>
            <p:nvPr/>
          </p:nvGrpSpPr>
          <p:grpSpPr>
            <a:xfrm>
              <a:off x="3600360" y="1457280"/>
              <a:ext cx="1600200" cy="2352600"/>
              <a:chOff x="3600360" y="1457280"/>
              <a:chExt cx="1600200" cy="2352600"/>
            </a:xfrm>
          </p:grpSpPr>
          <p:sp>
            <p:nvSpPr>
              <p:cNvPr id="571" name=""/>
              <p:cNvSpPr/>
              <p:nvPr/>
            </p:nvSpPr>
            <p:spPr>
              <a:xfrm>
                <a:off x="4479840" y="3048120"/>
                <a:ext cx="18432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479840" y="3048120"/>
                <a:ext cx="18432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600360" y="1457280"/>
                <a:ext cx="1600200" cy="685800"/>
              </a:xfrm>
              <a:prstGeom prst="ellipse">
                <a:avLst/>
              </a:prstGeom>
              <a:solidFill>
                <a:srgbClr val="dddddd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C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419720" y="2133720"/>
                <a:ext cx="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5" name=""/>
            <p:cNvSpPr/>
            <p:nvPr/>
          </p:nvSpPr>
          <p:spPr>
            <a:xfrm>
              <a:off x="3581280" y="3809880"/>
              <a:ext cx="1600200" cy="685800"/>
            </a:xfrm>
            <a:prstGeom prst="ellipse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S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533520" y="5029200"/>
            <a:ext cx="2057400" cy="800280"/>
            <a:chOff x="533520" y="5029200"/>
            <a:chExt cx="2057400" cy="800280"/>
          </a:xfrm>
        </p:grpSpPr>
        <p:sp>
          <p:nvSpPr>
            <p:cNvPr id="577" name=""/>
            <p:cNvSpPr/>
            <p:nvPr/>
          </p:nvSpPr>
          <p:spPr>
            <a:xfrm>
              <a:off x="1828800" y="5029200"/>
              <a:ext cx="762120" cy="304920"/>
            </a:xfrm>
            <a:prstGeom prst="rightArrow">
              <a:avLst>
                <a:gd name="adj1" fmla="val 50000"/>
                <a:gd name="adj2" fmla="val 6248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33520" y="5370480"/>
              <a:ext cx="1996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LI =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700 123456 (IN#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38080" y="5029200"/>
              <a:ext cx="762120" cy="304920"/>
            </a:xfrm>
            <a:prstGeom prst="rightArrow">
              <a:avLst>
                <a:gd name="adj1" fmla="val 50000"/>
                <a:gd name="adj2" fmla="val 6248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6095880" y="4952880"/>
            <a:ext cx="1828800" cy="795600"/>
            <a:chOff x="6095880" y="4952880"/>
            <a:chExt cx="1828800" cy="795600"/>
          </a:xfrm>
        </p:grpSpPr>
        <p:sp>
          <p:nvSpPr>
            <p:cNvPr id="581" name=""/>
            <p:cNvSpPr/>
            <p:nvPr/>
          </p:nvSpPr>
          <p:spPr>
            <a:xfrm>
              <a:off x="6175440" y="5289480"/>
              <a:ext cx="1550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LI = A und/oder IN#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095880" y="4952880"/>
              <a:ext cx="685800" cy="304920"/>
            </a:xfrm>
            <a:prstGeom prst="rightArrow">
              <a:avLst>
                <a:gd name="adj1" fmla="val 50000"/>
                <a:gd name="adj2" fmla="val 56228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238880" y="4952880"/>
              <a:ext cx="685800" cy="304920"/>
            </a:xfrm>
            <a:prstGeom prst="rightArrow">
              <a:avLst>
                <a:gd name="adj1" fmla="val 50000"/>
                <a:gd name="adj2" fmla="val 56228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EFA3-5831-49B6-9C71-C12D0DBCDD4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E0D683-3388-4357-9F83-D0EB9252A8CF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GSM / GPRS / UM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8" name=""/>
          <p:cNvGrpSpPr/>
          <p:nvPr/>
        </p:nvGrpSpPr>
        <p:grpSpPr>
          <a:xfrm>
            <a:off x="533520" y="1447920"/>
            <a:ext cx="2895480" cy="1600200"/>
            <a:chOff x="533520" y="1447920"/>
            <a:chExt cx="2895480" cy="1600200"/>
          </a:xfrm>
        </p:grpSpPr>
        <p:sp>
          <p:nvSpPr>
            <p:cNvPr id="589" name=""/>
            <p:cNvSpPr/>
            <p:nvPr/>
          </p:nvSpPr>
          <p:spPr>
            <a:xfrm>
              <a:off x="2743200" y="2743200"/>
              <a:ext cx="68580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676520" y="2743200"/>
              <a:ext cx="53316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1" name=""/>
            <p:cNvGrpSpPr/>
            <p:nvPr/>
          </p:nvGrpSpPr>
          <p:grpSpPr>
            <a:xfrm>
              <a:off x="533520" y="1447920"/>
              <a:ext cx="1218960" cy="1600200"/>
              <a:chOff x="533520" y="1447920"/>
              <a:chExt cx="1218960" cy="1600200"/>
            </a:xfrm>
          </p:grpSpPr>
          <p:grpSp>
            <p:nvGrpSpPr>
              <p:cNvPr id="592" name=""/>
              <p:cNvGrpSpPr/>
              <p:nvPr/>
            </p:nvGrpSpPr>
            <p:grpSpPr>
              <a:xfrm>
                <a:off x="533520" y="1447920"/>
                <a:ext cx="761760" cy="1218960"/>
                <a:chOff x="533520" y="1447920"/>
                <a:chExt cx="761760" cy="121896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609480" y="2057400"/>
                  <a:ext cx="609840" cy="6094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4" name=""/>
                <p:cNvGrpSpPr/>
                <p:nvPr/>
              </p:nvGrpSpPr>
              <p:grpSpPr>
                <a:xfrm>
                  <a:off x="762120" y="1447920"/>
                  <a:ext cx="304200" cy="609480"/>
                  <a:chOff x="762120" y="1447920"/>
                  <a:chExt cx="304200" cy="609480"/>
                </a:xfrm>
              </p:grpSpPr>
              <p:sp>
                <p:nvSpPr>
                  <p:cNvPr id="595" name=""/>
                  <p:cNvSpPr/>
                  <p:nvPr/>
                </p:nvSpPr>
                <p:spPr>
                  <a:xfrm>
                    <a:off x="914400" y="1447920"/>
                    <a:ext cx="0" cy="609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 flipH="1">
                    <a:off x="914400" y="1447920"/>
                    <a:ext cx="15192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762120" y="1447920"/>
                    <a:ext cx="15228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98" name=""/>
                <p:cNvSpPr/>
                <p:nvPr/>
              </p:nvSpPr>
              <p:spPr>
                <a:xfrm>
                  <a:off x="533520" y="2133720"/>
                  <a:ext cx="761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BT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990720" y="1828800"/>
                <a:ext cx="761760" cy="1219320"/>
                <a:chOff x="990720" y="1828800"/>
                <a:chExt cx="761760" cy="121932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1066680" y="2438640"/>
                  <a:ext cx="609840" cy="6094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1" name=""/>
                <p:cNvGrpSpPr/>
                <p:nvPr/>
              </p:nvGrpSpPr>
              <p:grpSpPr>
                <a:xfrm>
                  <a:off x="1219320" y="1828800"/>
                  <a:ext cx="304200" cy="609480"/>
                  <a:chOff x="1219320" y="1828800"/>
                  <a:chExt cx="304200" cy="609480"/>
                </a:xfrm>
              </p:grpSpPr>
              <p:sp>
                <p:nvSpPr>
                  <p:cNvPr id="602" name=""/>
                  <p:cNvSpPr/>
                  <p:nvPr/>
                </p:nvSpPr>
                <p:spPr>
                  <a:xfrm>
                    <a:off x="1371600" y="1828800"/>
                    <a:ext cx="0" cy="609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 flipH="1">
                    <a:off x="1371600" y="1828800"/>
                    <a:ext cx="15192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>
                    <a:off x="1219320" y="1828800"/>
                    <a:ext cx="15228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5" name=""/>
                <p:cNvSpPr/>
                <p:nvPr/>
              </p:nvSpPr>
              <p:spPr>
                <a:xfrm>
                  <a:off x="990720" y="2514600"/>
                  <a:ext cx="761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BT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06" name=""/>
            <p:cNvGrpSpPr/>
            <p:nvPr/>
          </p:nvGrpSpPr>
          <p:grpSpPr>
            <a:xfrm>
              <a:off x="1981080" y="2438280"/>
              <a:ext cx="914400" cy="609480"/>
              <a:chOff x="1981080" y="2438280"/>
              <a:chExt cx="914400" cy="609480"/>
            </a:xfrm>
          </p:grpSpPr>
          <p:sp>
            <p:nvSpPr>
              <p:cNvPr id="607" name=""/>
              <p:cNvSpPr/>
              <p:nvPr/>
            </p:nvSpPr>
            <p:spPr>
              <a:xfrm>
                <a:off x="2133720" y="2438280"/>
                <a:ext cx="609480" cy="6094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981080" y="2514600"/>
                <a:ext cx="91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</a:rPr>
                  <a:t>RN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>
              <a:off x="1752480" y="160020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9900"/>
                  </a:solidFill>
                  <a:latin typeface="Arial Unicode MS"/>
                </a:rPr>
                <a:t>UM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3657600" y="2133720"/>
            <a:ext cx="304920" cy="304560"/>
          </a:xfrm>
          <a:prstGeom prst="star5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380880" y="3276720"/>
            <a:ext cx="8458200" cy="2818800"/>
            <a:chOff x="380880" y="3276720"/>
            <a:chExt cx="8458200" cy="2818800"/>
          </a:xfrm>
        </p:grpSpPr>
        <p:grpSp>
          <p:nvGrpSpPr>
            <p:cNvPr id="612" name=""/>
            <p:cNvGrpSpPr/>
            <p:nvPr/>
          </p:nvGrpSpPr>
          <p:grpSpPr>
            <a:xfrm>
              <a:off x="990720" y="3276720"/>
              <a:ext cx="7848360" cy="2818800"/>
              <a:chOff x="990720" y="3276720"/>
              <a:chExt cx="7848360" cy="2818800"/>
            </a:xfrm>
          </p:grpSpPr>
          <p:grpSp>
            <p:nvGrpSpPr>
              <p:cNvPr id="613" name=""/>
              <p:cNvGrpSpPr/>
              <p:nvPr/>
            </p:nvGrpSpPr>
            <p:grpSpPr>
              <a:xfrm>
                <a:off x="990720" y="4495680"/>
                <a:ext cx="1218600" cy="1599840"/>
                <a:chOff x="990720" y="4495680"/>
                <a:chExt cx="1218600" cy="1599840"/>
              </a:xfrm>
            </p:grpSpPr>
            <p:grpSp>
              <p:nvGrpSpPr>
                <p:cNvPr id="614" name=""/>
                <p:cNvGrpSpPr/>
                <p:nvPr/>
              </p:nvGrpSpPr>
              <p:grpSpPr>
                <a:xfrm>
                  <a:off x="990720" y="4495680"/>
                  <a:ext cx="761760" cy="1219320"/>
                  <a:chOff x="990720" y="4495680"/>
                  <a:chExt cx="761760" cy="1219320"/>
                </a:xfrm>
              </p:grpSpPr>
              <p:sp>
                <p:nvSpPr>
                  <p:cNvPr id="615" name=""/>
                  <p:cNvSpPr/>
                  <p:nvPr/>
                </p:nvSpPr>
                <p:spPr>
                  <a:xfrm>
                    <a:off x="1066680" y="5105160"/>
                    <a:ext cx="609120" cy="6098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6" name=""/>
                  <p:cNvGrpSpPr/>
                  <p:nvPr/>
                </p:nvGrpSpPr>
                <p:grpSpPr>
                  <a:xfrm>
                    <a:off x="1218960" y="4495680"/>
                    <a:ext cx="304200" cy="609480"/>
                    <a:chOff x="1218960" y="4495680"/>
                    <a:chExt cx="304200" cy="609480"/>
                  </a:xfrm>
                </p:grpSpPr>
                <p:sp>
                  <p:nvSpPr>
                    <p:cNvPr id="617" name=""/>
                    <p:cNvSpPr/>
                    <p:nvPr/>
                  </p:nvSpPr>
                  <p:spPr>
                    <a:xfrm>
                      <a:off x="1371240" y="4495680"/>
                      <a:ext cx="0" cy="6094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8" name=""/>
                    <p:cNvSpPr/>
                    <p:nvPr/>
                  </p:nvSpPr>
                  <p:spPr>
                    <a:xfrm flipH="1">
                      <a:off x="1371240" y="4495680"/>
                      <a:ext cx="151920" cy="2286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9" name=""/>
                    <p:cNvSpPr/>
                    <p:nvPr/>
                  </p:nvSpPr>
                  <p:spPr>
                    <a:xfrm>
                      <a:off x="1218960" y="4495680"/>
                      <a:ext cx="152280" cy="2286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20" name=""/>
                  <p:cNvSpPr/>
                  <p:nvPr/>
                </p:nvSpPr>
                <p:spPr>
                  <a:xfrm>
                    <a:off x="990720" y="5181480"/>
                    <a:ext cx="7617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BT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1" name=""/>
                <p:cNvGrpSpPr/>
                <p:nvPr/>
              </p:nvGrpSpPr>
              <p:grpSpPr>
                <a:xfrm>
                  <a:off x="1447560" y="4876920"/>
                  <a:ext cx="761760" cy="1218600"/>
                  <a:chOff x="1447560" y="4876920"/>
                  <a:chExt cx="761760" cy="1218600"/>
                </a:xfrm>
              </p:grpSpPr>
              <p:sp>
                <p:nvSpPr>
                  <p:cNvPr id="622" name=""/>
                  <p:cNvSpPr/>
                  <p:nvPr/>
                </p:nvSpPr>
                <p:spPr>
                  <a:xfrm>
                    <a:off x="1523520" y="5486040"/>
                    <a:ext cx="609120" cy="60948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23" name=""/>
                  <p:cNvGrpSpPr/>
                  <p:nvPr/>
                </p:nvGrpSpPr>
                <p:grpSpPr>
                  <a:xfrm>
                    <a:off x="1675800" y="4876920"/>
                    <a:ext cx="304200" cy="609120"/>
                    <a:chOff x="1675800" y="4876920"/>
                    <a:chExt cx="304200" cy="609120"/>
                  </a:xfrm>
                </p:grpSpPr>
                <p:sp>
                  <p:nvSpPr>
                    <p:cNvPr id="624" name=""/>
                    <p:cNvSpPr/>
                    <p:nvPr/>
                  </p:nvSpPr>
                  <p:spPr>
                    <a:xfrm>
                      <a:off x="1828080" y="4876920"/>
                      <a:ext cx="0" cy="6091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5" name=""/>
                    <p:cNvSpPr/>
                    <p:nvPr/>
                  </p:nvSpPr>
                  <p:spPr>
                    <a:xfrm flipH="1">
                      <a:off x="1828080" y="4876920"/>
                      <a:ext cx="151920" cy="2282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6" name=""/>
                    <p:cNvSpPr/>
                    <p:nvPr/>
                  </p:nvSpPr>
                  <p:spPr>
                    <a:xfrm>
                      <a:off x="1675800" y="4876920"/>
                      <a:ext cx="152280" cy="2282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27" name=""/>
                  <p:cNvSpPr/>
                  <p:nvPr/>
                </p:nvSpPr>
                <p:spPr>
                  <a:xfrm>
                    <a:off x="1447560" y="5562360"/>
                    <a:ext cx="7617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BT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28" name=""/>
              <p:cNvGrpSpPr/>
              <p:nvPr/>
            </p:nvGrpSpPr>
            <p:grpSpPr>
              <a:xfrm>
                <a:off x="1676520" y="4419720"/>
                <a:ext cx="1752480" cy="1066320"/>
                <a:chOff x="1676520" y="4419720"/>
                <a:chExt cx="1752480" cy="106632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2590920" y="4419720"/>
                  <a:ext cx="609480" cy="6094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2362320" y="4572000"/>
                  <a:ext cx="1066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B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flipV="1">
                  <a:off x="1676520" y="4800600"/>
                  <a:ext cx="914400" cy="38088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flipV="1">
                  <a:off x="1981080" y="4800240"/>
                  <a:ext cx="609840" cy="68580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3200400" y="3276720"/>
                <a:ext cx="5638680" cy="2514600"/>
                <a:chOff x="3200400" y="3276720"/>
                <a:chExt cx="5638680" cy="2514600"/>
              </a:xfrm>
            </p:grpSpPr>
            <p:sp>
              <p:nvSpPr>
                <p:cNvPr id="634" name=""/>
                <p:cNvSpPr/>
                <p:nvPr/>
              </p:nvSpPr>
              <p:spPr>
                <a:xfrm flipV="1">
                  <a:off x="5943600" y="3809880"/>
                  <a:ext cx="838080" cy="15228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5867280" y="3962520"/>
                  <a:ext cx="914400" cy="83844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V="1">
                  <a:off x="4114800" y="3962160"/>
                  <a:ext cx="1066680" cy="83844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3886200" y="4724640"/>
                  <a:ext cx="609480" cy="6094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3733920" y="480096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M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5105520" y="3733920"/>
                  <a:ext cx="838080" cy="60984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5029200" y="3810240"/>
                  <a:ext cx="990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GM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6400800" y="4724640"/>
                  <a:ext cx="609480" cy="6094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6248520" y="480096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M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3200400" y="4876920"/>
                  <a:ext cx="685800" cy="152640"/>
                </a:xfrm>
                <a:prstGeom prst="line">
                  <a:avLst/>
                </a:prstGeom>
                <a:ln w="381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4" name=""/>
                <p:cNvGrpSpPr/>
                <p:nvPr/>
              </p:nvGrpSpPr>
              <p:grpSpPr>
                <a:xfrm>
                  <a:off x="4191120" y="5105520"/>
                  <a:ext cx="838080" cy="398880"/>
                  <a:chOff x="4191120" y="5105520"/>
                  <a:chExt cx="838080" cy="398880"/>
                </a:xfrm>
              </p:grpSpPr>
              <p:sp>
                <p:nvSpPr>
                  <p:cNvPr id="645" name=""/>
                  <p:cNvSpPr/>
                  <p:nvPr/>
                </p:nvSpPr>
                <p:spPr>
                  <a:xfrm>
                    <a:off x="4343400" y="5105520"/>
                    <a:ext cx="532800" cy="3812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4191120" y="5105520"/>
                    <a:ext cx="838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VLR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7" name=""/>
                <p:cNvGrpSpPr/>
                <p:nvPr/>
              </p:nvGrpSpPr>
              <p:grpSpPr>
                <a:xfrm>
                  <a:off x="6705720" y="5105520"/>
                  <a:ext cx="838080" cy="398880"/>
                  <a:chOff x="6705720" y="5105520"/>
                  <a:chExt cx="838080" cy="398880"/>
                </a:xfrm>
              </p:grpSpPr>
              <p:sp>
                <p:nvSpPr>
                  <p:cNvPr id="648" name=""/>
                  <p:cNvSpPr/>
                  <p:nvPr/>
                </p:nvSpPr>
                <p:spPr>
                  <a:xfrm>
                    <a:off x="6858000" y="5105520"/>
                    <a:ext cx="532800" cy="3812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6705720" y="5105520"/>
                    <a:ext cx="838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VLR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50" name=""/>
                <p:cNvSpPr/>
                <p:nvPr/>
              </p:nvSpPr>
              <p:spPr>
                <a:xfrm>
                  <a:off x="5334120" y="4724640"/>
                  <a:ext cx="838080" cy="1066680"/>
                </a:xfrm>
                <a:prstGeom prst="can">
                  <a:avLst>
                    <a:gd name="adj" fmla="val 25000"/>
                  </a:avLst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4495680" y="4876920"/>
                  <a:ext cx="838440" cy="22860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 flipV="1">
                  <a:off x="6172200" y="5029200"/>
                  <a:ext cx="228600" cy="7596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5715000" y="4343760"/>
                  <a:ext cx="0" cy="38088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5257800" y="5105520"/>
                  <a:ext cx="990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</a:rPr>
                    <a:t>HL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Cloud"/>
                <p:cNvSpPr/>
                <p:nvPr/>
              </p:nvSpPr>
              <p:spPr>
                <a:xfrm>
                  <a:off x="6553080" y="3276720"/>
                  <a:ext cx="2286000" cy="122868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6934320" y="3810240"/>
                  <a:ext cx="1447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ISD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7" name=""/>
            <p:cNvSpPr/>
            <p:nvPr/>
          </p:nvSpPr>
          <p:spPr>
            <a:xfrm>
              <a:off x="2666880" y="541008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cc99"/>
                  </a:solidFill>
                  <a:latin typeface="Arial Unicode MS"/>
                </a:rPr>
                <a:t>GS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8" name=""/>
            <p:cNvGrpSpPr/>
            <p:nvPr/>
          </p:nvGrpSpPr>
          <p:grpSpPr>
            <a:xfrm>
              <a:off x="380880" y="3505320"/>
              <a:ext cx="1362240" cy="838080"/>
              <a:chOff x="380880" y="3505320"/>
              <a:chExt cx="1362240" cy="838080"/>
            </a:xfrm>
          </p:grpSpPr>
          <p:pic>
            <p:nvPicPr>
              <p:cNvPr id="659" name="" descr="Zum Downloaden klicken"/>
              <p:cNvPicPr/>
              <p:nvPr/>
            </p:nvPicPr>
            <p:blipFill>
              <a:blip r:embed="rId3"/>
              <a:stretch/>
            </p:blipFill>
            <p:spPr>
              <a:xfrm>
                <a:off x="380880" y="3505320"/>
                <a:ext cx="838080" cy="83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0" name="scanner2"/>
              <p:cNvSpPr/>
              <p:nvPr/>
            </p:nvSpPr>
            <p:spPr>
              <a:xfrm>
                <a:off x="914400" y="3733560"/>
                <a:ext cx="828720" cy="375840"/>
              </a:xfrm>
              <a:prstGeom prst="pi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H="1">
                <a:off x="761760" y="3962160"/>
                <a:ext cx="152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2" name=""/>
          <p:cNvGrpSpPr/>
          <p:nvPr/>
        </p:nvGrpSpPr>
        <p:grpSpPr>
          <a:xfrm>
            <a:off x="4038480" y="3429000"/>
            <a:ext cx="2819520" cy="1295280"/>
            <a:chOff x="4038480" y="3429000"/>
            <a:chExt cx="2819520" cy="1295280"/>
          </a:xfrm>
        </p:grpSpPr>
        <p:sp>
          <p:nvSpPr>
            <p:cNvPr id="663" name=""/>
            <p:cNvSpPr/>
            <p:nvPr/>
          </p:nvSpPr>
          <p:spPr>
            <a:xfrm>
              <a:off x="4038480" y="4419720"/>
              <a:ext cx="304920" cy="30456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334120" y="3429000"/>
              <a:ext cx="304560" cy="30492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553080" y="4419720"/>
              <a:ext cx="304920" cy="30456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6" name=""/>
          <p:cNvGrpSpPr/>
          <p:nvPr/>
        </p:nvGrpSpPr>
        <p:grpSpPr>
          <a:xfrm>
            <a:off x="2514600" y="1676520"/>
            <a:ext cx="6400800" cy="2742840"/>
            <a:chOff x="2514600" y="1676520"/>
            <a:chExt cx="6400800" cy="2742840"/>
          </a:xfrm>
        </p:grpSpPr>
        <p:sp>
          <p:nvSpPr>
            <p:cNvPr id="667" name=""/>
            <p:cNvSpPr/>
            <p:nvPr/>
          </p:nvSpPr>
          <p:spPr>
            <a:xfrm>
              <a:off x="4267080" y="304812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 Unicode MS"/>
                </a:rPr>
                <a:t>GP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Cloud"/>
            <p:cNvSpPr/>
            <p:nvPr/>
          </p:nvSpPr>
          <p:spPr>
            <a:xfrm>
              <a:off x="6629400" y="1676520"/>
              <a:ext cx="2286000" cy="12286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9" name=""/>
            <p:cNvGrpSpPr/>
            <p:nvPr/>
          </p:nvGrpSpPr>
          <p:grpSpPr>
            <a:xfrm>
              <a:off x="2514600" y="1981080"/>
              <a:ext cx="6095880" cy="2438280"/>
              <a:chOff x="2514600" y="1981080"/>
              <a:chExt cx="6095880" cy="2438280"/>
            </a:xfrm>
          </p:grpSpPr>
          <p:sp>
            <p:nvSpPr>
              <p:cNvPr id="670" name=""/>
              <p:cNvSpPr/>
              <p:nvPr/>
            </p:nvSpPr>
            <p:spPr>
              <a:xfrm>
                <a:off x="5867280" y="2285640"/>
                <a:ext cx="76212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V="1">
                <a:off x="4191120" y="2361960"/>
                <a:ext cx="914400" cy="38088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105520" y="1981080"/>
                <a:ext cx="761760" cy="6094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2590920" y="4038480"/>
                <a:ext cx="609480" cy="3808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2514600" y="4038480"/>
                <a:ext cx="762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 Unicode MS"/>
                  </a:rPr>
                  <a:t>PC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V="1">
                <a:off x="2895480" y="2971440"/>
                <a:ext cx="914400" cy="10670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6" name=""/>
              <p:cNvGrpSpPr/>
              <p:nvPr/>
            </p:nvGrpSpPr>
            <p:grpSpPr>
              <a:xfrm>
                <a:off x="3352680" y="2438280"/>
                <a:ext cx="914400" cy="609480"/>
                <a:chOff x="3352680" y="2438280"/>
                <a:chExt cx="914400" cy="60948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3428640" y="2438280"/>
                  <a:ext cx="762120" cy="60948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3352680" y="251460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SGS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9" name=""/>
              <p:cNvSpPr/>
              <p:nvPr/>
            </p:nvSpPr>
            <p:spPr>
              <a:xfrm>
                <a:off x="4952880" y="2057040"/>
                <a:ext cx="1067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</a:rPr>
                  <a:t>GGS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010280" y="2057040"/>
                <a:ext cx="160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</a:rPr>
                  <a:t>Intern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051F-38BF-4F36-B1B6-B824AA39E6C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949BF0-9E92-454E-A068-6A6B442E8DE1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gabepunkt E-Ma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3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85" name=""/>
          <p:cNvGrpSpPr/>
          <p:nvPr/>
        </p:nvGrpSpPr>
        <p:grpSpPr>
          <a:xfrm>
            <a:off x="685800" y="1371600"/>
            <a:ext cx="7772040" cy="4724280"/>
            <a:chOff x="685800" y="1371600"/>
            <a:chExt cx="7772040" cy="4724280"/>
          </a:xfrm>
        </p:grpSpPr>
        <p:grpSp>
          <p:nvGrpSpPr>
            <p:cNvPr id="686" name=""/>
            <p:cNvGrpSpPr/>
            <p:nvPr/>
          </p:nvGrpSpPr>
          <p:grpSpPr>
            <a:xfrm>
              <a:off x="692280" y="1374840"/>
              <a:ext cx="7757640" cy="4717080"/>
              <a:chOff x="692280" y="1374840"/>
              <a:chExt cx="7757640" cy="4717080"/>
            </a:xfrm>
          </p:grpSpPr>
          <p:grpSp>
            <p:nvGrpSpPr>
              <p:cNvPr id="687" name=""/>
              <p:cNvGrpSpPr/>
              <p:nvPr/>
            </p:nvGrpSpPr>
            <p:grpSpPr>
              <a:xfrm>
                <a:off x="692280" y="1374840"/>
                <a:ext cx="2293920" cy="685800"/>
                <a:chOff x="692280" y="1374840"/>
                <a:chExt cx="2293920" cy="68580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692280" y="1374840"/>
                  <a:ext cx="2293920" cy="685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9" name=""/>
                <p:cNvGrpSpPr/>
                <p:nvPr/>
              </p:nvGrpSpPr>
              <p:grpSpPr>
                <a:xfrm>
                  <a:off x="692280" y="1374840"/>
                  <a:ext cx="2293560" cy="685800"/>
                  <a:chOff x="692280" y="1374840"/>
                  <a:chExt cx="2293560" cy="685800"/>
                </a:xfrm>
              </p:grpSpPr>
              <p:sp>
                <p:nvSpPr>
                  <p:cNvPr id="690" name=""/>
                  <p:cNvSpPr/>
                  <p:nvPr/>
                </p:nvSpPr>
                <p:spPr>
                  <a:xfrm>
                    <a:off x="754920" y="1374840"/>
                    <a:ext cx="2168280" cy="6858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Ereigni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>
                    <a:off x="692280" y="1374840"/>
                    <a:ext cx="2293560" cy="68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92" name=""/>
              <p:cNvGrpSpPr/>
              <p:nvPr/>
            </p:nvGrpSpPr>
            <p:grpSpPr>
              <a:xfrm>
                <a:off x="2986560" y="1374840"/>
                <a:ext cx="3139560" cy="685800"/>
                <a:chOff x="2986560" y="1374840"/>
                <a:chExt cx="3139560" cy="685800"/>
              </a:xfrm>
            </p:grpSpPr>
            <p:sp>
              <p:nvSpPr>
                <p:cNvPr id="693" name=""/>
                <p:cNvSpPr/>
                <p:nvPr/>
              </p:nvSpPr>
              <p:spPr>
                <a:xfrm>
                  <a:off x="2986560" y="1374840"/>
                  <a:ext cx="3139560" cy="685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4" name=""/>
                <p:cNvGrpSpPr/>
                <p:nvPr/>
              </p:nvGrpSpPr>
              <p:grpSpPr>
                <a:xfrm>
                  <a:off x="2986560" y="1374840"/>
                  <a:ext cx="3139200" cy="685800"/>
                  <a:chOff x="2986560" y="1374840"/>
                  <a:chExt cx="3139200" cy="685800"/>
                </a:xfrm>
              </p:grpSpPr>
              <p:sp>
                <p:nvSpPr>
                  <p:cNvPr id="695" name=""/>
                  <p:cNvSpPr/>
                  <p:nvPr/>
                </p:nvSpPr>
                <p:spPr>
                  <a:xfrm>
                    <a:off x="3049560" y="1374840"/>
                    <a:ext cx="3012840" cy="6858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Bemerkungen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2986560" y="1374840"/>
                    <a:ext cx="3139200" cy="68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97" name=""/>
              <p:cNvGrpSpPr/>
              <p:nvPr/>
            </p:nvGrpSpPr>
            <p:grpSpPr>
              <a:xfrm>
                <a:off x="6126840" y="1374840"/>
                <a:ext cx="2323080" cy="685800"/>
                <a:chOff x="6126840" y="1374840"/>
                <a:chExt cx="2323080" cy="68580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6126840" y="1374840"/>
                  <a:ext cx="2323080" cy="685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9" name=""/>
                <p:cNvGrpSpPr/>
                <p:nvPr/>
              </p:nvGrpSpPr>
              <p:grpSpPr>
                <a:xfrm>
                  <a:off x="6126840" y="1374840"/>
                  <a:ext cx="2322720" cy="685800"/>
                  <a:chOff x="6126840" y="1374840"/>
                  <a:chExt cx="2322720" cy="685800"/>
                </a:xfrm>
              </p:grpSpPr>
              <p:sp>
                <p:nvSpPr>
                  <p:cNvPr id="700" name=""/>
                  <p:cNvSpPr/>
                  <p:nvPr/>
                </p:nvSpPr>
                <p:spPr>
                  <a:xfrm>
                    <a:off x="6189480" y="1374840"/>
                    <a:ext cx="2197440" cy="6858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Wert des XML-Parameter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&lt;Richtung&gt;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>
                    <a:off x="6126840" y="1374840"/>
                    <a:ext cx="2322720" cy="68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02" name=""/>
              <p:cNvGrpSpPr/>
              <p:nvPr/>
            </p:nvGrpSpPr>
            <p:grpSpPr>
              <a:xfrm>
                <a:off x="692280" y="2060640"/>
                <a:ext cx="2293920" cy="686160"/>
                <a:chOff x="692280" y="2060640"/>
                <a:chExt cx="2293920" cy="686160"/>
              </a:xfrm>
            </p:grpSpPr>
            <p:sp>
              <p:nvSpPr>
                <p:cNvPr id="703" name=""/>
                <p:cNvSpPr/>
                <p:nvPr/>
              </p:nvSpPr>
              <p:spPr>
                <a:xfrm>
                  <a:off x="754920" y="2060640"/>
                  <a:ext cx="2168640" cy="68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mpfangen einer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692280" y="2060640"/>
                  <a:ext cx="2293920" cy="68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5" name=""/>
              <p:cNvGrpSpPr/>
              <p:nvPr/>
            </p:nvGrpSpPr>
            <p:grpSpPr>
              <a:xfrm>
                <a:off x="2986560" y="2060640"/>
                <a:ext cx="3139560" cy="686160"/>
                <a:chOff x="2986560" y="2060640"/>
                <a:chExt cx="3139560" cy="686160"/>
              </a:xfrm>
            </p:grpSpPr>
            <p:sp>
              <p:nvSpPr>
                <p:cNvPr id="706" name=""/>
                <p:cNvSpPr/>
                <p:nvPr/>
              </p:nvSpPr>
              <p:spPr>
                <a:xfrm>
                  <a:off x="3049560" y="2060640"/>
                  <a:ext cx="3013200" cy="68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unabhängig davon, ob  diese dem züA direkt zustellt oder in der Mailbox gespeichert werden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2986560" y="2060640"/>
                  <a:ext cx="3139560" cy="68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8" name=""/>
              <p:cNvGrpSpPr/>
              <p:nvPr/>
            </p:nvGrpSpPr>
            <p:grpSpPr>
              <a:xfrm>
                <a:off x="6126840" y="2060640"/>
                <a:ext cx="2323080" cy="686160"/>
                <a:chOff x="6126840" y="2060640"/>
                <a:chExt cx="2323080" cy="686160"/>
              </a:xfrm>
            </p:grpSpPr>
            <p:sp>
              <p:nvSpPr>
                <p:cNvPr id="709" name=""/>
                <p:cNvSpPr/>
                <p:nvPr/>
              </p:nvSpPr>
              <p:spPr>
                <a:xfrm>
                  <a:off x="6189480" y="2060640"/>
                  <a:ext cx="2197800" cy="68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empfangen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6126840" y="2060640"/>
                  <a:ext cx="2323080" cy="68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1" name=""/>
              <p:cNvGrpSpPr/>
              <p:nvPr/>
            </p:nvGrpSpPr>
            <p:grpSpPr>
              <a:xfrm>
                <a:off x="692280" y="2747160"/>
                <a:ext cx="2293920" cy="806040"/>
                <a:chOff x="692280" y="2747160"/>
                <a:chExt cx="2293920" cy="806040"/>
              </a:xfrm>
            </p:grpSpPr>
            <p:sp>
              <p:nvSpPr>
                <p:cNvPr id="712" name=""/>
                <p:cNvSpPr/>
                <p:nvPr/>
              </p:nvSpPr>
              <p:spPr>
                <a:xfrm>
                  <a:off x="754920" y="2747160"/>
                  <a:ext cx="216864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brufen einer 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692280" y="2747160"/>
                  <a:ext cx="229392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4" name=""/>
              <p:cNvGrpSpPr/>
              <p:nvPr/>
            </p:nvGrpSpPr>
            <p:grpSpPr>
              <a:xfrm>
                <a:off x="2986560" y="2747160"/>
                <a:ext cx="3139560" cy="806040"/>
                <a:chOff x="2986560" y="2747160"/>
                <a:chExt cx="3139560" cy="806040"/>
              </a:xfrm>
            </p:grpSpPr>
            <p:sp>
              <p:nvSpPr>
                <p:cNvPr id="715" name=""/>
                <p:cNvSpPr/>
                <p:nvPr/>
              </p:nvSpPr>
              <p:spPr>
                <a:xfrm>
                  <a:off x="3049560" y="2747160"/>
                  <a:ext cx="30132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r züA ruft eine E-Mail aus seiner Mailbox ab, vollständig oder teilweise (z.B. nur den 'Betreff')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2986560" y="2747160"/>
                  <a:ext cx="313956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7" name=""/>
              <p:cNvGrpSpPr/>
              <p:nvPr/>
            </p:nvGrpSpPr>
            <p:grpSpPr>
              <a:xfrm>
                <a:off x="6126840" y="2747160"/>
                <a:ext cx="2323080" cy="806040"/>
                <a:chOff x="6126840" y="2747160"/>
                <a:chExt cx="2323080" cy="806040"/>
              </a:xfrm>
            </p:grpSpPr>
            <p:sp>
              <p:nvSpPr>
                <p:cNvPr id="718" name=""/>
                <p:cNvSpPr/>
                <p:nvPr/>
              </p:nvSpPr>
              <p:spPr>
                <a:xfrm>
                  <a:off x="6189480" y="2747160"/>
                  <a:ext cx="21978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abgerufen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6126840" y="2747160"/>
                  <a:ext cx="232308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0" name=""/>
              <p:cNvGrpSpPr/>
              <p:nvPr/>
            </p:nvGrpSpPr>
            <p:grpSpPr>
              <a:xfrm>
                <a:off x="692280" y="3553200"/>
                <a:ext cx="2293920" cy="1046160"/>
                <a:chOff x="692280" y="3553200"/>
                <a:chExt cx="2293920" cy="1046160"/>
              </a:xfrm>
            </p:grpSpPr>
            <p:sp>
              <p:nvSpPr>
                <p:cNvPr id="721" name=""/>
                <p:cNvSpPr/>
                <p:nvPr/>
              </p:nvSpPr>
              <p:spPr>
                <a:xfrm>
                  <a:off x="754920" y="3553200"/>
                  <a:ext cx="2168640" cy="10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erschieben einer E-Mail innerhalb des E-Mail-Serve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692280" y="3553200"/>
                  <a:ext cx="2293920" cy="104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3" name=""/>
              <p:cNvGrpSpPr/>
              <p:nvPr/>
            </p:nvGrpSpPr>
            <p:grpSpPr>
              <a:xfrm>
                <a:off x="2986560" y="3553200"/>
                <a:ext cx="3139560" cy="1046160"/>
                <a:chOff x="2986560" y="3553200"/>
                <a:chExt cx="3139560" cy="1046160"/>
              </a:xfrm>
            </p:grpSpPr>
            <p:sp>
              <p:nvSpPr>
                <p:cNvPr id="724" name=""/>
                <p:cNvSpPr/>
                <p:nvPr/>
              </p:nvSpPr>
              <p:spPr>
                <a:xfrm>
                  <a:off x="3049560" y="3553200"/>
                  <a:ext cx="3013200" cy="10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on der zu überwachenden E-Mailadresse wird innerhalb des E-Mail-Servers eine Email in eine Mailbox mit einer anderen Mailadresse kopiert oder umgekehr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2986560" y="3553200"/>
                  <a:ext cx="3139560" cy="104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6" name=""/>
              <p:cNvGrpSpPr/>
              <p:nvPr/>
            </p:nvGrpSpPr>
            <p:grpSpPr>
              <a:xfrm>
                <a:off x="6126840" y="3553200"/>
                <a:ext cx="2323080" cy="1046160"/>
                <a:chOff x="6126840" y="3553200"/>
                <a:chExt cx="2323080" cy="1046160"/>
              </a:xfrm>
            </p:grpSpPr>
            <p:sp>
              <p:nvSpPr>
                <p:cNvPr id="727" name=""/>
                <p:cNvSpPr/>
                <p:nvPr/>
              </p:nvSpPr>
              <p:spPr>
                <a:xfrm>
                  <a:off x="6189480" y="3553200"/>
                  <a:ext cx="2197800" cy="10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gesendet 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d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empfangen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6126840" y="3553200"/>
                  <a:ext cx="2323080" cy="104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" name=""/>
              <p:cNvGrpSpPr/>
              <p:nvPr/>
            </p:nvGrpSpPr>
            <p:grpSpPr>
              <a:xfrm>
                <a:off x="692280" y="4599720"/>
                <a:ext cx="2293920" cy="806040"/>
                <a:chOff x="692280" y="4599720"/>
                <a:chExt cx="2293920" cy="80604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754920" y="4599720"/>
                  <a:ext cx="216864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ersende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(inkl. Weiterleiten) einer 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692280" y="4599720"/>
                  <a:ext cx="229392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2" name=""/>
              <p:cNvGrpSpPr/>
              <p:nvPr/>
            </p:nvGrpSpPr>
            <p:grpSpPr>
              <a:xfrm>
                <a:off x="2986560" y="4599720"/>
                <a:ext cx="3139560" cy="806040"/>
                <a:chOff x="2986560" y="4599720"/>
                <a:chExt cx="3139560" cy="806040"/>
              </a:xfrm>
            </p:grpSpPr>
            <p:sp>
              <p:nvSpPr>
                <p:cNvPr id="733" name=""/>
                <p:cNvSpPr/>
                <p:nvPr/>
              </p:nvSpPr>
              <p:spPr>
                <a:xfrm>
                  <a:off x="3049560" y="4599720"/>
                  <a:ext cx="30132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r E-Mail-Server versendet eine empfangene oder eingestellte E-Mail.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2986560" y="4599720"/>
                  <a:ext cx="313956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5" name=""/>
              <p:cNvGrpSpPr/>
              <p:nvPr/>
            </p:nvGrpSpPr>
            <p:grpSpPr>
              <a:xfrm>
                <a:off x="6126840" y="4599720"/>
                <a:ext cx="2323080" cy="806040"/>
                <a:chOff x="6126840" y="4599720"/>
                <a:chExt cx="2323080" cy="80604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6189480" y="4599720"/>
                  <a:ext cx="21978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gesendet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6126840" y="4599720"/>
                  <a:ext cx="232308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8" name=""/>
              <p:cNvGrpSpPr/>
              <p:nvPr/>
            </p:nvGrpSpPr>
            <p:grpSpPr>
              <a:xfrm>
                <a:off x="692280" y="5406120"/>
                <a:ext cx="2293920" cy="685800"/>
                <a:chOff x="692280" y="5406120"/>
                <a:chExt cx="2293920" cy="685800"/>
              </a:xfrm>
            </p:grpSpPr>
            <p:sp>
              <p:nvSpPr>
                <p:cNvPr id="739" name=""/>
                <p:cNvSpPr/>
                <p:nvPr/>
              </p:nvSpPr>
              <p:spPr>
                <a:xfrm>
                  <a:off x="754920" y="5406120"/>
                  <a:ext cx="216864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instellen einer 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692280" y="5406120"/>
                  <a:ext cx="2293920" cy="68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1" name=""/>
              <p:cNvGrpSpPr/>
              <p:nvPr/>
            </p:nvGrpSpPr>
            <p:grpSpPr>
              <a:xfrm>
                <a:off x="2986560" y="5406120"/>
                <a:ext cx="3139560" cy="685800"/>
                <a:chOff x="2986560" y="5406120"/>
                <a:chExt cx="3139560" cy="68580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3049560" y="5406120"/>
                  <a:ext cx="301320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r züA überträgt eine E-Mail an den E-Mail-Server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2986560" y="5406120"/>
                  <a:ext cx="3139560" cy="68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4" name=""/>
              <p:cNvGrpSpPr/>
              <p:nvPr/>
            </p:nvGrpSpPr>
            <p:grpSpPr>
              <a:xfrm>
                <a:off x="6126840" y="5406120"/>
                <a:ext cx="2323080" cy="685800"/>
                <a:chOff x="6126840" y="5406120"/>
                <a:chExt cx="2323080" cy="68580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6189480" y="5406120"/>
                  <a:ext cx="219780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eingestellt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6126840" y="5406120"/>
                  <a:ext cx="2323080" cy="68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47" name=""/>
            <p:cNvSpPr/>
            <p:nvPr/>
          </p:nvSpPr>
          <p:spPr>
            <a:xfrm>
              <a:off x="685800" y="1371600"/>
              <a:ext cx="7772040" cy="47242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738E-1FE8-4F34-A693-5FBFC3F4C2D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02892B-833E-4DF1-BDE6-DBB8487820DE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0T12:52:09Z</dcterms:created>
  <dc:creator>IS16</dc:creator>
  <dc:description/>
  <dc:language>en-US</dc:language>
  <cp:lastModifiedBy>Harald A. Summa</cp:lastModifiedBy>
  <dcterms:modified xsi:type="dcterms:W3CDTF">2002-11-29T13:59:58Z</dcterms:modified>
  <cp:revision>86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38633211</vt:r8>
  </property>
  <property fmtid="{D5CDD505-2E9C-101B-9397-08002B2CF9AE}" pid="3" name="_AuthorEmail">
    <vt:lpwstr>summa@eco.de</vt:lpwstr>
  </property>
  <property fmtid="{D5CDD505-2E9C-101B-9397-08002B2CF9AE}" pid="4" name="_AuthorEmailDisplayName">
    <vt:lpwstr>Harald A. Summa</vt:lpwstr>
  </property>
  <property fmtid="{D5CDD505-2E9C-101B-9397-08002B2CF9AE}" pid="5" name="_EmailSubject">
    <vt:lpwstr>Workshop TKÜV 22.11.02</vt:lpwstr>
  </property>
</Properties>
</file>